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1.png" ContentType="image/png"/>
  <Override PartName="/ppt/media/image55.png" ContentType="image/png"/>
  <Override PartName="/ppt/media/image150.png" ContentType="image/png"/>
  <Override PartName="/ppt/media/image142.png" ContentType="image/png"/>
  <Override PartName="/ppt/media/image56.png" ContentType="image/png"/>
  <Override PartName="/ppt/media/image109.png" ContentType="image/png"/>
  <Override PartName="/ppt/media/image151.png" ContentType="image/png"/>
  <Override PartName="/ppt/media/image54.png" ContentType="image/png"/>
  <Override PartName="/ppt/media/image108.wmf" ContentType="image/x-wmf"/>
  <Override PartName="/ppt/media/image140.png" ContentType="image/png"/>
  <Override PartName="/ppt/media/image89.png" ContentType="image/png"/>
  <Override PartName="/ppt/media/image152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11.png" ContentType="image/png"/>
  <Override PartName="/ppt/media/image48.png" ContentType="image/png"/>
  <Override PartName="/ppt/media/image134.png" ContentType="image/png"/>
  <Override PartName="/ppt/media/image10.png" ContentType="image/png"/>
  <Override PartName="/ppt/media/image107.png" ContentType="image/png"/>
  <Override PartName="/ppt/media/image47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5.png" ContentType="image/png"/>
  <Override PartName="/ppt/media/image27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2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5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179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21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9.xml.rels" ContentType="application/vnd.openxmlformats-package.relationships+xml"/>
  <Override PartName="/ppt/slides/_rels/slide178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78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14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1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32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83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24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8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  <p:sldId id="343" r:id="rId98"/>
    <p:sldId id="344" r:id="rId99"/>
    <p:sldId id="345" r:id="rId100"/>
    <p:sldId id="346" r:id="rId101"/>
    <p:sldId id="347" r:id="rId102"/>
    <p:sldId id="348" r:id="rId103"/>
    <p:sldId id="349" r:id="rId104"/>
    <p:sldId id="350" r:id="rId105"/>
    <p:sldId id="351" r:id="rId106"/>
    <p:sldId id="352" r:id="rId107"/>
    <p:sldId id="353" r:id="rId108"/>
    <p:sldId id="354" r:id="rId109"/>
    <p:sldId id="355" r:id="rId110"/>
    <p:sldId id="356" r:id="rId111"/>
    <p:sldId id="357" r:id="rId112"/>
    <p:sldId id="358" r:id="rId113"/>
    <p:sldId id="359" r:id="rId114"/>
    <p:sldId id="360" r:id="rId115"/>
    <p:sldId id="361" r:id="rId116"/>
    <p:sldId id="362" r:id="rId117"/>
    <p:sldId id="363" r:id="rId118"/>
    <p:sldId id="364" r:id="rId119"/>
    <p:sldId id="365" r:id="rId120"/>
    <p:sldId id="366" r:id="rId121"/>
    <p:sldId id="367" r:id="rId122"/>
    <p:sldId id="368" r:id="rId123"/>
    <p:sldId id="369" r:id="rId124"/>
    <p:sldId id="370" r:id="rId125"/>
    <p:sldId id="371" r:id="rId126"/>
    <p:sldId id="372" r:id="rId127"/>
    <p:sldId id="373" r:id="rId128"/>
    <p:sldId id="374" r:id="rId129"/>
    <p:sldId id="375" r:id="rId130"/>
    <p:sldId id="376" r:id="rId131"/>
    <p:sldId id="377" r:id="rId132"/>
    <p:sldId id="378" r:id="rId133"/>
    <p:sldId id="379" r:id="rId134"/>
    <p:sldId id="380" r:id="rId135"/>
    <p:sldId id="381" r:id="rId136"/>
    <p:sldId id="382" r:id="rId137"/>
    <p:sldId id="383" r:id="rId138"/>
    <p:sldId id="384" r:id="rId139"/>
    <p:sldId id="385" r:id="rId140"/>
    <p:sldId id="386" r:id="rId141"/>
    <p:sldId id="387" r:id="rId142"/>
    <p:sldId id="388" r:id="rId143"/>
    <p:sldId id="389" r:id="rId144"/>
    <p:sldId id="390" r:id="rId145"/>
    <p:sldId id="391" r:id="rId146"/>
    <p:sldId id="392" r:id="rId147"/>
    <p:sldId id="393" r:id="rId148"/>
    <p:sldId id="394" r:id="rId149"/>
    <p:sldId id="395" r:id="rId150"/>
    <p:sldId id="396" r:id="rId151"/>
    <p:sldId id="397" r:id="rId152"/>
    <p:sldId id="398" r:id="rId153"/>
    <p:sldId id="399" r:id="rId154"/>
    <p:sldId id="400" r:id="rId155"/>
    <p:sldId id="401" r:id="rId156"/>
    <p:sldId id="402" r:id="rId157"/>
    <p:sldId id="403" r:id="rId158"/>
    <p:sldId id="404" r:id="rId159"/>
    <p:sldId id="405" r:id="rId160"/>
    <p:sldId id="406" r:id="rId161"/>
    <p:sldId id="407" r:id="rId162"/>
    <p:sldId id="408" r:id="rId163"/>
    <p:sldId id="409" r:id="rId164"/>
    <p:sldId id="410" r:id="rId165"/>
    <p:sldId id="411" r:id="rId166"/>
    <p:sldId id="412" r:id="rId167"/>
    <p:sldId id="413" r:id="rId168"/>
    <p:sldId id="414" r:id="rId169"/>
    <p:sldId id="415" r:id="rId170"/>
    <p:sldId id="416" r:id="rId171"/>
    <p:sldId id="417" r:id="rId172"/>
    <p:sldId id="418" r:id="rId173"/>
    <p:sldId id="419" r:id="rId174"/>
    <p:sldId id="420" r:id="rId175"/>
    <p:sldId id="421" r:id="rId176"/>
    <p:sldId id="422" r:id="rId177"/>
    <p:sldId id="423" r:id="rId178"/>
    <p:sldId id="424" r:id="rId179"/>
    <p:sldId id="425" r:id="rId180"/>
    <p:sldId id="426" r:id="rId181"/>
    <p:sldId id="427" r:id="rId182"/>
    <p:sldId id="428" r:id="rId183"/>
    <p:sldId id="429" r:id="rId184"/>
    <p:sldId id="430" r:id="rId185"/>
    <p:sldId id="431" r:id="rId186"/>
    <p:sldId id="432" r:id="rId187"/>
    <p:sldId id="433" r:id="rId188"/>
    <p:sldId id="434" r:id="rId189"/>
    <p:sldId id="435" r:id="rId190"/>
    <p:sldId id="436" r:id="rId191"/>
    <p:sldId id="437" r:id="rId192"/>
    <p:sldId id="438" r:id="rId193"/>
    <p:sldId id="439" r:id="rId194"/>
    <p:sldId id="440" r:id="rId195"/>
    <p:sldId id="441" r:id="rId196"/>
    <p:sldId id="442" r:id="rId197"/>
    <p:sldId id="443" r:id="rId198"/>
    <p:sldId id="444" r:id="rId199"/>
    <p:sldId id="445" r:id="rId200"/>
    <p:sldId id="446" r:id="rId201"/>
    <p:sldId id="447" r:id="rId202"/>
    <p:sldId id="448" r:id="rId203"/>
    <p:sldId id="449" r:id="rId204"/>
    <p:sldId id="450" r:id="rId205"/>
    <p:sldId id="451" r:id="rId206"/>
    <p:sldId id="452" r:id="rId207"/>
    <p:sldId id="453" r:id="rId208"/>
  </p:sldIdLst>
  <p:sldSz cx="9144000" cy="6858000"/>
  <p:notesSz cx="9867900" cy="6757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slide" Target="slides/slide88.xml"/><Relationship Id="rId99" Type="http://schemas.openxmlformats.org/officeDocument/2006/relationships/slide" Target="slides/slide89.xml"/><Relationship Id="rId100" Type="http://schemas.openxmlformats.org/officeDocument/2006/relationships/slide" Target="slides/slide90.xml"/><Relationship Id="rId101" Type="http://schemas.openxmlformats.org/officeDocument/2006/relationships/slide" Target="slides/slide91.xml"/><Relationship Id="rId102" Type="http://schemas.openxmlformats.org/officeDocument/2006/relationships/slide" Target="slides/slide92.xml"/><Relationship Id="rId103" Type="http://schemas.openxmlformats.org/officeDocument/2006/relationships/slide" Target="slides/slide93.xml"/><Relationship Id="rId104" Type="http://schemas.openxmlformats.org/officeDocument/2006/relationships/slide" Target="slides/slide94.xml"/><Relationship Id="rId105" Type="http://schemas.openxmlformats.org/officeDocument/2006/relationships/slide" Target="slides/slide95.xml"/><Relationship Id="rId106" Type="http://schemas.openxmlformats.org/officeDocument/2006/relationships/slide" Target="slides/slide96.xml"/><Relationship Id="rId107" Type="http://schemas.openxmlformats.org/officeDocument/2006/relationships/slide" Target="slides/slide97.xml"/><Relationship Id="rId108" Type="http://schemas.openxmlformats.org/officeDocument/2006/relationships/slide" Target="slides/slide98.xml"/><Relationship Id="rId109" Type="http://schemas.openxmlformats.org/officeDocument/2006/relationships/slide" Target="slides/slide99.xml"/><Relationship Id="rId110" Type="http://schemas.openxmlformats.org/officeDocument/2006/relationships/slide" Target="slides/slide100.xml"/><Relationship Id="rId111" Type="http://schemas.openxmlformats.org/officeDocument/2006/relationships/slide" Target="slides/slide101.xml"/><Relationship Id="rId112" Type="http://schemas.openxmlformats.org/officeDocument/2006/relationships/slide" Target="slides/slide102.xml"/><Relationship Id="rId113" Type="http://schemas.openxmlformats.org/officeDocument/2006/relationships/slide" Target="slides/slide103.xml"/><Relationship Id="rId114" Type="http://schemas.openxmlformats.org/officeDocument/2006/relationships/slide" Target="slides/slide104.xml"/><Relationship Id="rId115" Type="http://schemas.openxmlformats.org/officeDocument/2006/relationships/slide" Target="slides/slide105.xml"/><Relationship Id="rId116" Type="http://schemas.openxmlformats.org/officeDocument/2006/relationships/slide" Target="slides/slide106.xml"/><Relationship Id="rId117" Type="http://schemas.openxmlformats.org/officeDocument/2006/relationships/slide" Target="slides/slide107.xml"/><Relationship Id="rId118" Type="http://schemas.openxmlformats.org/officeDocument/2006/relationships/slide" Target="slides/slide108.xml"/><Relationship Id="rId119" Type="http://schemas.openxmlformats.org/officeDocument/2006/relationships/slide" Target="slides/slide109.xml"/><Relationship Id="rId120" Type="http://schemas.openxmlformats.org/officeDocument/2006/relationships/slide" Target="slides/slide110.xml"/><Relationship Id="rId121" Type="http://schemas.openxmlformats.org/officeDocument/2006/relationships/slide" Target="slides/slide111.xml"/><Relationship Id="rId122" Type="http://schemas.openxmlformats.org/officeDocument/2006/relationships/slide" Target="slides/slide112.xml"/><Relationship Id="rId123" Type="http://schemas.openxmlformats.org/officeDocument/2006/relationships/slide" Target="slides/slide113.xml"/><Relationship Id="rId124" Type="http://schemas.openxmlformats.org/officeDocument/2006/relationships/slide" Target="slides/slide114.xml"/><Relationship Id="rId125" Type="http://schemas.openxmlformats.org/officeDocument/2006/relationships/slide" Target="slides/slide115.xml"/><Relationship Id="rId126" Type="http://schemas.openxmlformats.org/officeDocument/2006/relationships/slide" Target="slides/slide116.xml"/><Relationship Id="rId127" Type="http://schemas.openxmlformats.org/officeDocument/2006/relationships/slide" Target="slides/slide117.xml"/><Relationship Id="rId128" Type="http://schemas.openxmlformats.org/officeDocument/2006/relationships/slide" Target="slides/slide118.xml"/><Relationship Id="rId129" Type="http://schemas.openxmlformats.org/officeDocument/2006/relationships/slide" Target="slides/slide119.xml"/><Relationship Id="rId130" Type="http://schemas.openxmlformats.org/officeDocument/2006/relationships/slide" Target="slides/slide120.xml"/><Relationship Id="rId131" Type="http://schemas.openxmlformats.org/officeDocument/2006/relationships/slide" Target="slides/slide121.xml"/><Relationship Id="rId132" Type="http://schemas.openxmlformats.org/officeDocument/2006/relationships/slide" Target="slides/slide122.xml"/><Relationship Id="rId133" Type="http://schemas.openxmlformats.org/officeDocument/2006/relationships/slide" Target="slides/slide123.xml"/><Relationship Id="rId134" Type="http://schemas.openxmlformats.org/officeDocument/2006/relationships/slide" Target="slides/slide124.xml"/><Relationship Id="rId135" Type="http://schemas.openxmlformats.org/officeDocument/2006/relationships/slide" Target="slides/slide125.xml"/><Relationship Id="rId136" Type="http://schemas.openxmlformats.org/officeDocument/2006/relationships/slide" Target="slides/slide126.xml"/><Relationship Id="rId137" Type="http://schemas.openxmlformats.org/officeDocument/2006/relationships/slide" Target="slides/slide127.xml"/><Relationship Id="rId138" Type="http://schemas.openxmlformats.org/officeDocument/2006/relationships/slide" Target="slides/slide128.xml"/><Relationship Id="rId139" Type="http://schemas.openxmlformats.org/officeDocument/2006/relationships/slide" Target="slides/slide129.xml"/><Relationship Id="rId140" Type="http://schemas.openxmlformats.org/officeDocument/2006/relationships/slide" Target="slides/slide130.xml"/><Relationship Id="rId141" Type="http://schemas.openxmlformats.org/officeDocument/2006/relationships/slide" Target="slides/slide131.xml"/><Relationship Id="rId142" Type="http://schemas.openxmlformats.org/officeDocument/2006/relationships/slide" Target="slides/slide132.xml"/><Relationship Id="rId143" Type="http://schemas.openxmlformats.org/officeDocument/2006/relationships/slide" Target="slides/slide133.xml"/><Relationship Id="rId144" Type="http://schemas.openxmlformats.org/officeDocument/2006/relationships/slide" Target="slides/slide134.xml"/><Relationship Id="rId145" Type="http://schemas.openxmlformats.org/officeDocument/2006/relationships/slide" Target="slides/slide135.xml"/><Relationship Id="rId146" Type="http://schemas.openxmlformats.org/officeDocument/2006/relationships/slide" Target="slides/slide136.xml"/><Relationship Id="rId147" Type="http://schemas.openxmlformats.org/officeDocument/2006/relationships/slide" Target="slides/slide137.xml"/><Relationship Id="rId148" Type="http://schemas.openxmlformats.org/officeDocument/2006/relationships/slide" Target="slides/slide138.xml"/><Relationship Id="rId149" Type="http://schemas.openxmlformats.org/officeDocument/2006/relationships/slide" Target="slides/slide139.xml"/><Relationship Id="rId150" Type="http://schemas.openxmlformats.org/officeDocument/2006/relationships/slide" Target="slides/slide140.xml"/><Relationship Id="rId151" Type="http://schemas.openxmlformats.org/officeDocument/2006/relationships/slide" Target="slides/slide141.xml"/><Relationship Id="rId152" Type="http://schemas.openxmlformats.org/officeDocument/2006/relationships/slide" Target="slides/slide142.xml"/><Relationship Id="rId153" Type="http://schemas.openxmlformats.org/officeDocument/2006/relationships/slide" Target="slides/slide143.xml"/><Relationship Id="rId154" Type="http://schemas.openxmlformats.org/officeDocument/2006/relationships/slide" Target="slides/slide144.xml"/><Relationship Id="rId155" Type="http://schemas.openxmlformats.org/officeDocument/2006/relationships/slide" Target="slides/slide145.xml"/><Relationship Id="rId156" Type="http://schemas.openxmlformats.org/officeDocument/2006/relationships/slide" Target="slides/slide146.xml"/><Relationship Id="rId157" Type="http://schemas.openxmlformats.org/officeDocument/2006/relationships/slide" Target="slides/slide147.xml"/><Relationship Id="rId158" Type="http://schemas.openxmlformats.org/officeDocument/2006/relationships/slide" Target="slides/slide148.xml"/><Relationship Id="rId159" Type="http://schemas.openxmlformats.org/officeDocument/2006/relationships/slide" Target="slides/slide149.xml"/><Relationship Id="rId160" Type="http://schemas.openxmlformats.org/officeDocument/2006/relationships/slide" Target="slides/slide150.xml"/><Relationship Id="rId161" Type="http://schemas.openxmlformats.org/officeDocument/2006/relationships/slide" Target="slides/slide151.xml"/><Relationship Id="rId162" Type="http://schemas.openxmlformats.org/officeDocument/2006/relationships/slide" Target="slides/slide152.xml"/><Relationship Id="rId163" Type="http://schemas.openxmlformats.org/officeDocument/2006/relationships/slide" Target="slides/slide153.xml"/><Relationship Id="rId164" Type="http://schemas.openxmlformats.org/officeDocument/2006/relationships/slide" Target="slides/slide154.xml"/><Relationship Id="rId165" Type="http://schemas.openxmlformats.org/officeDocument/2006/relationships/slide" Target="slides/slide155.xml"/><Relationship Id="rId166" Type="http://schemas.openxmlformats.org/officeDocument/2006/relationships/slide" Target="slides/slide156.xml"/><Relationship Id="rId167" Type="http://schemas.openxmlformats.org/officeDocument/2006/relationships/slide" Target="slides/slide157.xml"/><Relationship Id="rId168" Type="http://schemas.openxmlformats.org/officeDocument/2006/relationships/slide" Target="slides/slide158.xml"/><Relationship Id="rId169" Type="http://schemas.openxmlformats.org/officeDocument/2006/relationships/slide" Target="slides/slide159.xml"/><Relationship Id="rId170" Type="http://schemas.openxmlformats.org/officeDocument/2006/relationships/slide" Target="slides/slide160.xml"/><Relationship Id="rId171" Type="http://schemas.openxmlformats.org/officeDocument/2006/relationships/slide" Target="slides/slide161.xml"/><Relationship Id="rId172" Type="http://schemas.openxmlformats.org/officeDocument/2006/relationships/slide" Target="slides/slide162.xml"/><Relationship Id="rId173" Type="http://schemas.openxmlformats.org/officeDocument/2006/relationships/slide" Target="slides/slide163.xml"/><Relationship Id="rId174" Type="http://schemas.openxmlformats.org/officeDocument/2006/relationships/slide" Target="slides/slide164.xml"/><Relationship Id="rId175" Type="http://schemas.openxmlformats.org/officeDocument/2006/relationships/slide" Target="slides/slide165.xml"/><Relationship Id="rId176" Type="http://schemas.openxmlformats.org/officeDocument/2006/relationships/slide" Target="slides/slide166.xml"/><Relationship Id="rId177" Type="http://schemas.openxmlformats.org/officeDocument/2006/relationships/slide" Target="slides/slide167.xml"/><Relationship Id="rId178" Type="http://schemas.openxmlformats.org/officeDocument/2006/relationships/slide" Target="slides/slide168.xml"/><Relationship Id="rId179" Type="http://schemas.openxmlformats.org/officeDocument/2006/relationships/slide" Target="slides/slide169.xml"/><Relationship Id="rId180" Type="http://schemas.openxmlformats.org/officeDocument/2006/relationships/slide" Target="slides/slide170.xml"/><Relationship Id="rId181" Type="http://schemas.openxmlformats.org/officeDocument/2006/relationships/slide" Target="slides/slide171.xml"/><Relationship Id="rId182" Type="http://schemas.openxmlformats.org/officeDocument/2006/relationships/slide" Target="slides/slide172.xml"/><Relationship Id="rId183" Type="http://schemas.openxmlformats.org/officeDocument/2006/relationships/slide" Target="slides/slide173.xml"/><Relationship Id="rId184" Type="http://schemas.openxmlformats.org/officeDocument/2006/relationships/slide" Target="slides/slide174.xml"/><Relationship Id="rId185" Type="http://schemas.openxmlformats.org/officeDocument/2006/relationships/slide" Target="slides/slide175.xml"/><Relationship Id="rId186" Type="http://schemas.openxmlformats.org/officeDocument/2006/relationships/slide" Target="slides/slide176.xml"/><Relationship Id="rId187" Type="http://schemas.openxmlformats.org/officeDocument/2006/relationships/slide" Target="slides/slide177.xml"/><Relationship Id="rId188" Type="http://schemas.openxmlformats.org/officeDocument/2006/relationships/slide" Target="slides/slide178.xml"/><Relationship Id="rId189" Type="http://schemas.openxmlformats.org/officeDocument/2006/relationships/slide" Target="slides/slide179.xml"/><Relationship Id="rId190" Type="http://schemas.openxmlformats.org/officeDocument/2006/relationships/slide" Target="slides/slide180.xml"/><Relationship Id="rId191" Type="http://schemas.openxmlformats.org/officeDocument/2006/relationships/slide" Target="slides/slide181.xml"/><Relationship Id="rId192" Type="http://schemas.openxmlformats.org/officeDocument/2006/relationships/slide" Target="slides/slide182.xml"/><Relationship Id="rId193" Type="http://schemas.openxmlformats.org/officeDocument/2006/relationships/slide" Target="slides/slide183.xml"/><Relationship Id="rId194" Type="http://schemas.openxmlformats.org/officeDocument/2006/relationships/slide" Target="slides/slide184.xml"/><Relationship Id="rId195" Type="http://schemas.openxmlformats.org/officeDocument/2006/relationships/slide" Target="slides/slide185.xml"/><Relationship Id="rId196" Type="http://schemas.openxmlformats.org/officeDocument/2006/relationships/slide" Target="slides/slide186.xml"/><Relationship Id="rId197" Type="http://schemas.openxmlformats.org/officeDocument/2006/relationships/slide" Target="slides/slide187.xml"/><Relationship Id="rId198" Type="http://schemas.openxmlformats.org/officeDocument/2006/relationships/slide" Target="slides/slide188.xml"/><Relationship Id="rId199" Type="http://schemas.openxmlformats.org/officeDocument/2006/relationships/slide" Target="slides/slide189.xml"/><Relationship Id="rId200" Type="http://schemas.openxmlformats.org/officeDocument/2006/relationships/slide" Target="slides/slide190.xml"/><Relationship Id="rId201" Type="http://schemas.openxmlformats.org/officeDocument/2006/relationships/slide" Target="slides/slide191.xml"/><Relationship Id="rId202" Type="http://schemas.openxmlformats.org/officeDocument/2006/relationships/slide" Target="slides/slide192.xml"/><Relationship Id="rId203" Type="http://schemas.openxmlformats.org/officeDocument/2006/relationships/slide" Target="slides/slide193.xml"/><Relationship Id="rId204" Type="http://schemas.openxmlformats.org/officeDocument/2006/relationships/slide" Target="slides/slide194.xml"/><Relationship Id="rId205" Type="http://schemas.openxmlformats.org/officeDocument/2006/relationships/slide" Target="slides/slide195.xml"/><Relationship Id="rId206" Type="http://schemas.openxmlformats.org/officeDocument/2006/relationships/slide" Target="slides/slide196.xml"/><Relationship Id="rId207" Type="http://schemas.openxmlformats.org/officeDocument/2006/relationships/slide" Target="slides/slide197.xml"/><Relationship Id="rId208" Type="http://schemas.openxmlformats.org/officeDocument/2006/relationships/slide" Target="slides/slide198.xml"/><Relationship Id="rId2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25A-8554-4262-849B-9E9E8AFD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F75-0186-4910-BAD2-D5966BB8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FD3A7-C099-4805-8DE8-5631C3FA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4B60C-FA16-4290-BA50-0F91BECC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B5566-6E60-4B88-AA79-EA3AA1E7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7701A-F5E9-4929-9C59-EC447B42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6ADDF-C2C9-42E8-82D6-25AEA79A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796A6-ABBE-4CE0-8D42-C41715F3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CCC71-7009-45A1-8259-9A15D421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FB4B9-E0D5-4F5C-BBAA-F415C303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85FF6-1DB4-47A0-BEF5-A6B03BAC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86E-5413-4485-A530-1F9A5C22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906-3EFB-4208-8A43-651C9C95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D3A0-1CCA-4300-BBA1-BE1E1BF6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2E62-6E62-40EE-B7C9-DAA4BF0A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16F5-AA8B-45A7-A6E1-DFA47AFE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591B-E797-4BED-8AF8-09B7D620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09C0-25BC-434F-930F-FFD25E4E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BD46-E9CD-4F92-8909-585E69E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3D31-3DD2-4D8C-9F9B-0532DA80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D5D-82C6-4CAF-8BFF-AC751815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26AE-EC10-42BE-B223-52A3A127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F6F6-EDDC-4A68-B989-FE78A896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69E9-8349-4AAD-AFD5-BDD349DF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3F1F-5C6B-47C9-B9FE-DBA19E20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A0BD-5339-4FE8-B5EC-A5C08832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4988-3ED2-4B22-B17E-E88D1A82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3C4A-9D1F-4278-9DA5-B719F668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8C898-F562-43AA-AF2F-58346A18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12E2-19FB-45C2-B94B-7DF2D96D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F992-00F4-47BC-BA61-4E36CDA4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2D4-C7E1-4D23-B049-547E72D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28E4-5DCC-4215-9AFE-7EDF9617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3A49F-B197-4C05-B308-EF10393D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BD50-3790-409E-87B6-65362ABA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E0DB-BFBD-4225-839B-6534043E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CDAD-0CCF-4994-A951-05EFE613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FA3E-74D7-4DD7-A1D4-F13900C0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A789-4636-4A2A-B36D-7CFEC3DC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6CB64-A227-4299-8D98-139C3FAB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650E-3303-424D-AD9A-E357ECCE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8415-0845-4803-A5D0-B6E2DBD6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F00-0B1D-436F-BF3D-C04B658D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CB9E-D10C-4C24-B2DB-52CC6F88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5A208-CAD0-462D-A4C4-B82AF7DB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31F79-A7E3-4508-A93F-92F4B115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56BE7-9324-470A-B51D-4F4FF15F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D938-542F-410E-A1E2-1102E04F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7CF5-2195-4610-95FC-B7C8F210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FE1EA-0511-4117-8CE0-3AA168F1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C8326-8955-4BF4-B4F6-928E369B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3BFD4-944E-4EF3-8348-F881AC31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9CD95-7EC2-492E-8E75-3B61D87A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D00-E371-4286-9221-F0F1767C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22BE8-D536-4545-BF5B-37178E2F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4287A-75DD-4D93-A097-D33C5BED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507E5-C920-4AE1-81C8-D2F7C1DB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657D4-FEBA-4496-B8A1-3EBC7495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D03BF-CD60-4D3E-8524-056B4BF9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7423B-066F-45DE-BB20-FD24490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442D2-61A8-44F6-B19E-3423585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450EC-C6C6-4722-9BEA-B281A81B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926B9-7DE4-4525-AA3D-7580B06C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6ECBF-E823-4449-88FC-6157B9E2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478-F0E1-44FB-82BB-EC669CC4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9629A-622F-43C8-AAE6-A6E1C69D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BE204-BA6D-4975-8299-13C7A542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7D7A8-406C-4D98-A2BF-1650E69D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EAFCC-E903-4D89-B255-CD6CEC63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24553-00FB-4C6D-B0C5-409069E0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03CFB-30E7-4FCF-8B1C-293A5D3B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2931C-FE29-4249-A9A2-08D31E3C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92AE6-763B-48F8-B1F2-5DCFB28F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F4C2A-8039-4FCD-AFC9-F5700E3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22FE5-C63B-490F-8F62-B8B0443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635-C376-4911-BF90-70C523D6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63852-7F57-4792-983E-285175D3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1E00F-4300-4003-9C00-58091513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AA93-91DF-45E5-8407-38E60200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BAF11-22F7-422C-9846-122DAC48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F60AA-BDAF-4D32-89D4-C30C8E03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7251F-1E19-47AF-A48F-7321805E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DB1C0-93F8-4395-9071-B50F9666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FB3F0-4674-428D-85A1-D9187ED0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B465-6E44-453B-8932-B98C7A1C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6EAD0-51DC-42F6-A23E-192D60D3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5E7-13CD-4C7F-A68F-4D48FB83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AAC5A-160B-42EE-9598-01318A6A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150EB-23C3-4582-9E42-C270E4AC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B0911-91C0-4010-B012-AFBB2D81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851B9-4823-4F68-9DF4-CCAF96A7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AD6F-6B31-419C-B745-33C40969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D98EB-D6FF-43F8-83DB-F23AB9FF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CB91A-1801-4049-A6C3-58B9BE59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75979-2F16-41B1-85AC-C56B6EFC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1C280-8A4F-4BBF-AB91-AD12D1AF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F3570-3002-464E-A5E0-03E5471A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003-881C-4412-818D-50592869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2BAF-CCA2-4DAA-91B9-10B0585F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603CB-ECF4-4E80-8EA0-E83A67DB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C8EDD-CAFB-42FB-A2DA-C202C83C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C538E-DDE6-4733-9E66-37444EFA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E4D90-2078-4BD3-B8A8-CAA59897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F24B0-2FF5-4A45-8BF4-BB300E63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75661-D250-47BD-9611-7D8BB113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ADC54-67CD-4625-9093-4C213BE6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51B11-508E-4282-99B7-F4382A56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5DD55-9FCD-4778-85FA-AF7F67B6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1C6D-E1D1-494D-AE4F-D76F3247E6D7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231"/>
            </a:gs>
            <a:gs pos="100000">
              <a:srgbClr val="71748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32C7-16D7-4D3E-8F0E-12E0980FF9BB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231"/>
            </a:gs>
            <a:gs pos="100000">
              <a:srgbClr val="71748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EA65-7E64-4C3E-92CD-2BEFB490D204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0214-3A30-4069-9F31-FFD044F72779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CF73-DFF6-4C87-9E45-5088378E77F8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3971-52F0-40D0-B2B2-DD742B18EAAF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5AD1-746C-4410-B823-38A13CCC6897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a1b8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83a1b8"/>
                </a:solidFill>
                <a:latin typeface="Times New Roman"/>
              </a:rPr>
              <a:t> </a:t>
            </a:r>
            <a:fld id="{41590B11-B0CE-49C6-B724-DD1D55338C6D}" type="datetime10">
              <a:rPr b="0" lang="en-US" sz="1000" spc="-1" strike="noStrike">
                <a:solidFill>
                  <a:srgbClr val="83a1b8"/>
                </a:solidFill>
                <a:latin typeface="Times New Roman"/>
              </a:rPr>
              <a:t>05:12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92BE-E745-4B95-8E6B-E594D7A76064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a1b8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83a1b8"/>
                </a:solidFill>
                <a:latin typeface="Times New Roman"/>
              </a:rPr>
              <a:t> </a:t>
            </a:r>
            <a:fld id="{0A39FD5C-939B-4A7E-8958-356AA936FDF2}" type="datetime10">
              <a:rPr b="0" lang="en-US" sz="1000" spc="-1" strike="noStrike">
                <a:solidFill>
                  <a:srgbClr val="83a1b8"/>
                </a:solidFill>
                <a:latin typeface="Times New Roman"/>
              </a:rPr>
              <a:t>05:12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E279-3C1A-4C1F-AA40-31131B386F1B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slide" Target="slide2.xml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7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slide" Target="slide2.xml"/><Relationship Id="rId5" Type="http://schemas.openxmlformats.org/officeDocument/2006/relationships/slideLayout" Target="../slideLayouts/slideLayout97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7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97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1.png"/><Relationship Id="rId3" Type="http://schemas.openxmlformats.org/officeDocument/2006/relationships/image" Target="../media/image13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9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slideLayout" Target="../slideLayouts/slideLayout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slideLayout" Target="../slideLayouts/slideLayout7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slideLayout" Target="../slideLayouts/slideLayout7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slideLayout" Target="../slideLayouts/slideLayout7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slideLayout" Target="../slideLayouts/slideLayout7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44.png"/><Relationship Id="rId2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slideLayout" Target="../slideLayouts/slideLayout7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slideLayout" Target="../slideLayouts/slideLayout7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48.png"/><Relationship Id="rId2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51.png"/><Relationship Id="rId2" Type="http://schemas.openxmlformats.org/officeDocument/2006/relationships/image" Target="../media/image152.png"/><Relationship Id="rId3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46.xml"/><Relationship Id="rId7" Type="http://schemas.openxmlformats.org/officeDocument/2006/relationships/slide" Target="slide75.xml"/><Relationship Id="rId8" Type="http://schemas.openxmlformats.org/officeDocument/2006/relationships/slide" Target="slide75.xml"/><Relationship Id="rId9" Type="http://schemas.openxmlformats.org/officeDocument/2006/relationships/slide" Target="slide108.xml"/><Relationship Id="rId10" Type="http://schemas.openxmlformats.org/officeDocument/2006/relationships/slide" Target="slide108.xml"/><Relationship Id="rId11" Type="http://schemas.openxmlformats.org/officeDocument/2006/relationships/slide" Target="slide145.xml"/><Relationship Id="rId12" Type="http://schemas.openxmlformats.org/officeDocument/2006/relationships/slide" Target="slide145.xml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87CD-F7F7-40A0-90D4-9E867A70810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-108000" y="-101520"/>
            <a:ext cx="9504360" cy="7245360"/>
          </a:xfrm>
          <a:prstGeom prst="rect">
            <a:avLst/>
          </a:prstGeom>
          <a:ln w="0">
            <a:noFill/>
          </a:ln>
        </p:spPr>
      </p:pic>
      <p:pic>
        <p:nvPicPr>
          <p:cNvPr id="385" name="Rectangle 2" descr=""/>
          <p:cNvPicPr/>
          <p:nvPr/>
        </p:nvPicPr>
        <p:blipFill>
          <a:blip r:embed="rId2"/>
          <a:stretch/>
        </p:blipFill>
        <p:spPr>
          <a:xfrm>
            <a:off x="0" y="177840"/>
            <a:ext cx="4749840" cy="14605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3"/>
          <p:cNvSpPr/>
          <p:nvPr/>
        </p:nvSpPr>
        <p:spPr>
          <a:xfrm>
            <a:off x="179280" y="5157720"/>
            <a:ext cx="288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Доце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кафедры АПП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Носачёв Сергей Виктор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Каб.297 (главный корпу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nosachev-s@yandex.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56c7a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Программный интерфейс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I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взаимодействия с программами  на языках Си и Фортра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8086-2768-4655-A0A3-3D534114303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CEBA-27BE-4150-B63B-50BFECD410BB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/>
          </p:nvPr>
        </p:nvSpPr>
        <p:spPr>
          <a:xfrm>
            <a:off x="610920" y="981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рафики параметрических функций часто возникают в физических приложения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зависимая переменная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этом случае имеет смысл времени,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ордин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построения динамического графика можно использовать функцию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comet(x,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A62C-D243-4366-9EEE-4B6A09F1E601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Функции в полярной СК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оятся аналогично графикам функций в декартовой систем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построения используется команда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pol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9540-DFE5-4704-A0F3-C469630BECA8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7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88280" cy="5400720"/>
          </a:xfrm>
          <a:prstGeom prst="rect">
            <a:avLst/>
          </a:prstGeom>
          <a:ln w="0">
            <a:noFill/>
          </a:ln>
        </p:spPr>
      </p:pic>
      <p:sp>
        <p:nvSpPr>
          <p:cNvPr id="1118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Номер слайда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D890-CBA1-4911-854E-4F38D13BB0F2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строени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верхносте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онтурных диаграмм (линии равного уровн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D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и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екторных поле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калярных поле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Трёхмерная (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3D-</a:t>
            </a: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) графи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5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312D-B9AA-47F1-97EC-DEA24A2ADD7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28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08360" cy="22492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9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3059280" y="260280"/>
            <a:ext cx="2906640" cy="21859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0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3168720" cy="23860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1" descr=""/>
          <p:cNvPicPr/>
          <p:nvPr/>
        </p:nvPicPr>
        <p:blipFill>
          <a:blip r:embed="rId4"/>
          <a:stretch/>
        </p:blipFill>
        <p:spPr>
          <a:xfrm>
            <a:off x="3564000" y="2492280"/>
            <a:ext cx="3024000" cy="23385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32" descr=""/>
          <p:cNvPicPr/>
          <p:nvPr/>
        </p:nvPicPr>
        <p:blipFill>
          <a:blip r:embed="rId5"/>
          <a:stretch/>
        </p:blipFill>
        <p:spPr>
          <a:xfrm>
            <a:off x="6732720" y="2421000"/>
            <a:ext cx="2063520" cy="2448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33" descr=""/>
          <p:cNvPicPr/>
          <p:nvPr/>
        </p:nvPicPr>
        <p:blipFill>
          <a:blip r:embed="rId6"/>
          <a:stretch/>
        </p:blipFill>
        <p:spPr>
          <a:xfrm>
            <a:off x="6012000" y="260280"/>
            <a:ext cx="2987640" cy="20811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34" descr=""/>
          <p:cNvPicPr/>
          <p:nvPr/>
        </p:nvPicPr>
        <p:blipFill>
          <a:blip r:embed="rId7"/>
          <a:stretch/>
        </p:blipFill>
        <p:spPr>
          <a:xfrm>
            <a:off x="179280" y="5013360"/>
            <a:ext cx="3313080" cy="16286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35" descr=""/>
          <p:cNvPicPr/>
          <p:nvPr/>
        </p:nvPicPr>
        <p:blipFill>
          <a:blip r:embed="rId8"/>
          <a:stretch/>
        </p:blipFill>
        <p:spPr>
          <a:xfrm>
            <a:off x="3564000" y="4869000"/>
            <a:ext cx="2303280" cy="18032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36" descr=""/>
          <p:cNvPicPr/>
          <p:nvPr/>
        </p:nvPicPr>
        <p:blipFill>
          <a:blip r:embed="rId9"/>
          <a:stretch/>
        </p:blipFill>
        <p:spPr>
          <a:xfrm>
            <a:off x="6143760" y="492120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1139" name="AutoShape 5">
            <a:hlinkClick r:id="rId10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047E-3D3E-41D2-B472-32ECB2D7CCD2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Построение 3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D-</a:t>
            </a: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поверхност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мотрим пример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строить поверхность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(x,y)=sin(r)/r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=sqrt(x</a:t>
            </a:r>
            <a:r>
              <a:rPr b="0" i="1" lang="en-US" sz="3000" spc="-1" strike="noStrike" baseline="42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+y</a:t>
            </a:r>
            <a:r>
              <a:rPr b="0" i="1" lang="en-US" sz="3000" spc="-1" strike="noStrike" baseline="42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7D6A-5BB8-436F-A46F-4BB470296C7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1" name="Picture 4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561440" cy="362448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3628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meshgr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вращает две матриц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ые определяют область построения фун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диапазоны по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зные, то функции передаются два диапаз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ственно поверхность выводится функцией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surf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DC5E-900B-4FAF-B710-40DD3D0CF58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Функции для построения поверхносте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395280" y="1628640"/>
          <a:ext cx="8497800" cy="3170520"/>
        </p:xfrm>
        <a:graphic>
          <a:graphicData uri="http://schemas.openxmlformats.org/drawingml/2006/table">
            <a:tbl>
              <a:tblPr/>
              <a:tblGrid>
                <a:gridCol w="2014560"/>
                <a:gridCol w="6483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я чего использ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urier New"/>
                        </a:rPr>
                        <a:t>mesh, sur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роение поверхнос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urier New"/>
                        </a:rPr>
                        <a:t>meshc, surf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ит поверхность и контурную диаграмму под н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urier New"/>
                        </a:rPr>
                        <a:t>mesh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ерхность на «пьедестале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urier New"/>
                        </a:rPr>
                        <a:t>surf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свеченная поверх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urier New"/>
                        </a:rPr>
                        <a:t>cont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урная диаграм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urier New"/>
                        </a:rPr>
                        <a:t>plot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ёхмерная линия (параметрическое задание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urier New"/>
                        </a:rPr>
                        <a:t>comet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ижение по трёхмерной ли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други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фических функциях можно узнать в системе помощ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D93-2F02-4232-91C8-B379E261349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704520" y="1211400"/>
            <a:ext cx="7467480" cy="300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Franklin Gothic Book"/>
              </a:rPr>
              <a:t>ПРОГРАММИРОВАНИЕ В </a:t>
            </a:r>
            <a:r>
              <a:rPr b="0" lang="en-US" sz="5400" spc="-1" strike="noStrike">
                <a:solidFill>
                  <a:srgbClr val="ffff00"/>
                </a:solidFill>
                <a:latin typeface="Franklin Gothic Book"/>
              </a:rPr>
              <a:t>MATLAB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7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87E0-070B-4C71-A9DA-76CAAA48ACE8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Типы программных файло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писание программ – это альтернатива работе в командной стро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граммный код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lab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мещают в файлах с расширением «</a:t>
            </a:r>
            <a:r>
              <a:rPr b="0" lang="en-US" sz="3000" spc="-1" strike="noStrike">
                <a:solidFill>
                  <a:srgbClr val="ffff00"/>
                </a:solidFill>
                <a:latin typeface="Courier New"/>
              </a:rPr>
              <a:t>m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m-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файлах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айлы бывают двух видов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Arial"/>
              </a:rPr>
              <a:t>скрипты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(scrip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Arial"/>
              </a:rPr>
              <a:t>функции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(func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ranklin Gothic Book"/>
              </a:rPr>
              <a:t>Matlab – </a:t>
            </a:r>
            <a:r>
              <a:rPr b="1" lang="ru-RU" sz="3600" spc="-1" strike="noStrike">
                <a:solidFill>
                  <a:srgbClr val="ffff00"/>
                </a:solidFill>
                <a:latin typeface="Franklin Gothic Book"/>
              </a:rPr>
              <a:t>язык для работы с матричными объектам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50560" y="17002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сновной объект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lab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матриц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исло – это матрица размера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1x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пользование матри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щественно облегчает программир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елает запись формул краткой и наглядно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дальнейшем изложении предполагается знакомство с матричной алгеброй и основами программиров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AFB8-FAB7-47FD-946E-0DD0C84961F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8094-5D88-432D-8EBA-6FFF9BF10C08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Скрип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едставляют собой последовательности команд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la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 если бы мы перенесли их из командного окна в отдельный фай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зываются по имени через командную строк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олняются в режиме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строчного анализа, обработки и выполнения исходных коман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E571-09DF-4B62-9CE7-2D69802CB5C5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/>
          </p:nvPr>
        </p:nvSpPr>
        <p:spPr>
          <a:xfrm>
            <a:off x="563400" y="764640"/>
            <a:ext cx="8042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лезны для автоматизации последовательности действий, которые выполняются многократн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могут принимать параметры и возвращать аргумен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Хранят значения своих переменных в рабочем пространств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де переменные доступны для других скриптов и из командной стро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951A-25E8-4D2C-B051-80AB892671F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пециальный вид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айл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отличие от скриптов могут принимать аргументы и возвращать знач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пользование функций позволяе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труктурировать программ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збежать повторения к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9AA2-8013-41DD-9B34-812B631EFD5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ние функции преследует целью расширение язы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еременные, определённые внутри функции являются </a:t>
            </a:r>
            <a:r>
              <a:rPr b="0" i="1" lang="ru-RU" sz="3000" spc="-1" strike="noStrike">
                <a:solidFill>
                  <a:srgbClr val="ffff00"/>
                </a:solidFill>
                <a:latin typeface="Arial"/>
              </a:rPr>
              <a:t>локальны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о есть видны только внутри самой функ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ункция имеет собственное им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роме того, с ней связано имя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айла, в котором функция запис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удем соблюдать правило: 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имя функции и имя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m-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файла должны быть одинаков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F3DD-A83F-423F-9DE5-AB20C00CC34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Структура 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состоит из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аголов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ccf3"/>
                </a:solidFill>
                <a:latin typeface="Courier New"/>
              </a:rPr>
              <a:t>function f = fact(n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5eccf3"/>
                </a:solidFill>
                <a:latin typeface="Arial"/>
              </a:rPr>
              <a:t>Заголов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1d31a"/>
                </a:solidFill>
                <a:latin typeface="Courier New"/>
              </a:rPr>
              <a:t>% </a:t>
            </a:r>
            <a:r>
              <a:rPr b="0" lang="ru-RU" sz="2400" spc="-1" strike="noStrike">
                <a:solidFill>
                  <a:srgbClr val="81d31a"/>
                </a:solidFill>
                <a:latin typeface="Courier New"/>
              </a:rPr>
              <a:t>Вычисляет факториал</a:t>
            </a:r>
            <a:r>
              <a:rPr b="0" lang="en-US" sz="2400" spc="-1" strike="noStrike">
                <a:solidFill>
                  <a:srgbClr val="81d31a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81d31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1d31a"/>
                </a:solidFill>
                <a:latin typeface="Arial"/>
              </a:rPr>
              <a:t>         Линия</a:t>
            </a:r>
            <a:r>
              <a:rPr b="0" lang="en-US" sz="2400" spc="-1" strike="noStrike">
                <a:solidFill>
                  <a:srgbClr val="81d31a"/>
                </a:solidFill>
                <a:latin typeface="Arial"/>
              </a:rPr>
              <a:t> H</a:t>
            </a:r>
            <a:r>
              <a:rPr b="0" lang="ru-RU" sz="2400" spc="-1" strike="noStrike">
                <a:solidFill>
                  <a:srgbClr val="81d31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1d31a"/>
                </a:solidFill>
                <a:latin typeface="Courier New"/>
              </a:rPr>
              <a:t>% FACT(N) </a:t>
            </a:r>
            <a:r>
              <a:rPr b="0" lang="ru-RU" sz="2400" spc="-1" strike="noStrike">
                <a:solidFill>
                  <a:srgbClr val="81d31a"/>
                </a:solidFill>
                <a:latin typeface="Courier New"/>
              </a:rPr>
              <a:t>возвращает </a:t>
            </a:r>
            <a:r>
              <a:rPr b="0" lang="en-US" sz="2400" spc="-1" strike="noStrike">
                <a:solidFill>
                  <a:srgbClr val="81d31a"/>
                </a:solidFill>
                <a:latin typeface="Courier New"/>
              </a:rPr>
              <a:t>N</a:t>
            </a:r>
            <a:r>
              <a:rPr b="0" lang="ru-RU" sz="2400" spc="-1" strike="noStrike">
                <a:solidFill>
                  <a:srgbClr val="81d31a"/>
                </a:solidFill>
                <a:latin typeface="Courier New"/>
              </a:rPr>
              <a:t>!</a:t>
            </a:r>
            <a:r>
              <a:rPr b="0" lang="en-US" sz="2400" spc="-1" strike="noStrike">
                <a:solidFill>
                  <a:srgbClr val="81d31a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81d31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81d31a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1d31a"/>
                </a:solidFill>
                <a:latin typeface="Arial"/>
              </a:rPr>
              <a:t>Hel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21"/>
                </a:solidFill>
                <a:latin typeface="Courier New"/>
              </a:rPr>
              <a:t>f = prod(1:n);</a:t>
            </a:r>
            <a:r>
              <a:rPr b="0" lang="en-US" sz="2400" spc="-1" strike="noStrike">
                <a:solidFill>
                  <a:srgbClr val="ff8021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8021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8021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8021"/>
                </a:solidFill>
                <a:latin typeface="Arial"/>
              </a:rPr>
              <a:t>Тело фун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1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ятся по команде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help &lt;</a:t>
            </a:r>
            <a:r>
              <a:rPr b="0" lang="ru-RU" sz="2400" spc="-1" strike="noStrike">
                <a:solidFill>
                  <a:srgbClr val="ffff00"/>
                </a:solidFill>
                <a:latin typeface="Courier New"/>
              </a:rPr>
              <a:t>имя функции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ктически, функция отличается от скрипта наличием заголовка и способом выз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395280" y="1989000"/>
            <a:ext cx="792180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8BFA-B43D-44C8-BC3E-0B6542DF662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Заголовок 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65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function</a:t>
            </a:r>
            <a:r>
              <a:rPr b="0" lang="en-US" sz="3600" spc="-1" strike="noStrike">
                <a:solidFill>
                  <a:srgbClr val="5eccf3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ff8021"/>
                </a:solidFill>
                <a:latin typeface="Courier New"/>
              </a:rPr>
              <a:t>f</a:t>
            </a:r>
            <a:r>
              <a:rPr b="0" lang="en-US" sz="3600" spc="-1" strike="noStrike">
                <a:solidFill>
                  <a:srgbClr val="5eccf3"/>
                </a:solidFill>
                <a:latin typeface="Courier New"/>
              </a:rPr>
              <a:t> = </a:t>
            </a:r>
            <a:r>
              <a:rPr b="0" lang="en-US" sz="3600" spc="-1" strike="noStrike">
                <a:solidFill>
                  <a:srgbClr val="56c7aa"/>
                </a:solidFill>
                <a:latin typeface="Courier New"/>
              </a:rPr>
              <a:t>fact</a:t>
            </a:r>
            <a:r>
              <a:rPr b="0" lang="en-US" sz="3600" spc="-1" strike="noStrike">
                <a:solidFill>
                  <a:srgbClr val="5eccf3"/>
                </a:solidFill>
                <a:latin typeface="Courier New"/>
              </a:rPr>
              <a:t>(</a:t>
            </a:r>
            <a:r>
              <a:rPr b="0" lang="en-US" sz="3600" spc="-1" strike="noStrike">
                <a:solidFill>
                  <a:srgbClr val="59a8d1"/>
                </a:solidFill>
                <a:latin typeface="Courier New"/>
              </a:rPr>
              <a:t>n</a:t>
            </a:r>
            <a:r>
              <a:rPr b="0" lang="en-US" sz="3600" spc="-1" strike="noStrike">
                <a:solidFill>
                  <a:srgbClr val="5eccf3"/>
                </a:solidFill>
                <a:latin typeface="Courier Ne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Group 22"/>
          <p:cNvGrpSpPr/>
          <p:nvPr/>
        </p:nvGrpSpPr>
        <p:grpSpPr>
          <a:xfrm>
            <a:off x="1514520" y="2204640"/>
            <a:ext cx="7631280" cy="2631240"/>
            <a:chOff x="1514520" y="2204640"/>
            <a:chExt cx="7631280" cy="2631240"/>
          </a:xfrm>
        </p:grpSpPr>
        <p:grpSp>
          <p:nvGrpSpPr>
            <p:cNvPr id="1216" name="Group 9"/>
            <p:cNvGrpSpPr/>
            <p:nvPr/>
          </p:nvGrpSpPr>
          <p:grpSpPr>
            <a:xfrm>
              <a:off x="5618160" y="2205000"/>
              <a:ext cx="936000" cy="936720"/>
              <a:chOff x="5618160" y="2205000"/>
              <a:chExt cx="936000" cy="936720"/>
            </a:xfrm>
          </p:grpSpPr>
          <p:sp>
            <p:nvSpPr>
              <p:cNvPr id="1217" name="Line 6"/>
              <p:cNvSpPr/>
              <p:nvPr/>
            </p:nvSpPr>
            <p:spPr>
              <a:xfrm flipV="1">
                <a:off x="5618160" y="2205000"/>
                <a:ext cx="0" cy="93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7"/>
              <p:cNvSpPr/>
              <p:nvPr/>
            </p:nvSpPr>
            <p:spPr>
              <a:xfrm>
                <a:off x="5618160" y="3141720"/>
                <a:ext cx="93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9" name="Text Box 8"/>
            <p:cNvSpPr/>
            <p:nvPr/>
          </p:nvSpPr>
          <p:spPr>
            <a:xfrm>
              <a:off x="6605280" y="2847960"/>
              <a:ext cx="233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ходной аргумен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0" name="Group 10"/>
            <p:cNvGrpSpPr/>
            <p:nvPr/>
          </p:nvGrpSpPr>
          <p:grpSpPr>
            <a:xfrm>
              <a:off x="4609800" y="2204640"/>
              <a:ext cx="1943640" cy="1440000"/>
              <a:chOff x="4609800" y="2204640"/>
              <a:chExt cx="1943640" cy="1440000"/>
            </a:xfrm>
          </p:grpSpPr>
          <p:sp>
            <p:nvSpPr>
              <p:cNvPr id="1221" name="Line 11"/>
              <p:cNvSpPr/>
              <p:nvPr/>
            </p:nvSpPr>
            <p:spPr>
              <a:xfrm flipV="1">
                <a:off x="4609800" y="2204640"/>
                <a:ext cx="0" cy="143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Line 12"/>
              <p:cNvSpPr/>
              <p:nvPr/>
            </p:nvSpPr>
            <p:spPr>
              <a:xfrm>
                <a:off x="4609800" y="3644640"/>
                <a:ext cx="1943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3" name="Group 13"/>
            <p:cNvGrpSpPr/>
            <p:nvPr/>
          </p:nvGrpSpPr>
          <p:grpSpPr>
            <a:xfrm>
              <a:off x="3170160" y="2205000"/>
              <a:ext cx="3454560" cy="1944000"/>
              <a:chOff x="3170160" y="2205000"/>
              <a:chExt cx="3454560" cy="1944000"/>
            </a:xfrm>
          </p:grpSpPr>
          <p:sp>
            <p:nvSpPr>
              <p:cNvPr id="1224" name="Line 14"/>
              <p:cNvSpPr/>
              <p:nvPr/>
            </p:nvSpPr>
            <p:spPr>
              <a:xfrm flipV="1">
                <a:off x="3170160" y="2205000"/>
                <a:ext cx="0" cy="194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5"/>
              <p:cNvSpPr/>
              <p:nvPr/>
            </p:nvSpPr>
            <p:spPr>
              <a:xfrm>
                <a:off x="3170160" y="4149000"/>
                <a:ext cx="345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16"/>
            <p:cNvGrpSpPr/>
            <p:nvPr/>
          </p:nvGrpSpPr>
          <p:grpSpPr>
            <a:xfrm>
              <a:off x="1514520" y="2205000"/>
              <a:ext cx="5182920" cy="2447280"/>
              <a:chOff x="1514520" y="2205000"/>
              <a:chExt cx="5182920" cy="2447280"/>
            </a:xfrm>
          </p:grpSpPr>
          <p:sp>
            <p:nvSpPr>
              <p:cNvPr id="1227" name="Line 17"/>
              <p:cNvSpPr/>
              <p:nvPr/>
            </p:nvSpPr>
            <p:spPr>
              <a:xfrm flipV="1">
                <a:off x="1514520" y="2205000"/>
                <a:ext cx="0" cy="24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8"/>
              <p:cNvSpPr/>
              <p:nvPr/>
            </p:nvSpPr>
            <p:spPr>
              <a:xfrm>
                <a:off x="1514520" y="4652280"/>
                <a:ext cx="5182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9" name="Text Box 19"/>
            <p:cNvSpPr/>
            <p:nvPr/>
          </p:nvSpPr>
          <p:spPr>
            <a:xfrm>
              <a:off x="6626520" y="3403440"/>
              <a:ext cx="17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мя функ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Text Box 20"/>
            <p:cNvSpPr/>
            <p:nvPr/>
          </p:nvSpPr>
          <p:spPr>
            <a:xfrm>
              <a:off x="6624360" y="400536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ыходной аргумен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Text Box 21"/>
            <p:cNvSpPr/>
            <p:nvPr/>
          </p:nvSpPr>
          <p:spPr>
            <a:xfrm>
              <a:off x="6699240" y="4437000"/>
              <a:ext cx="24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лужебное сло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2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EE7C-18C0-4B6D-BC68-96B0D79047B7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Комментар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ются д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яснения код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еменного исключения кода из тек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т быть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строчны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блоч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очные начинаются с символа «</a:t>
            </a:r>
            <a:r>
              <a:rPr b="0" lang="ru-RU" sz="2400" spc="-1" strike="noStrike">
                <a:solidFill>
                  <a:srgbClr val="ffff00"/>
                </a:solidFill>
                <a:latin typeface="Courier New"/>
              </a:rPr>
              <a:t>%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этого места и до конца строки всё игнорируется компиляторо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1d31a"/>
                </a:solidFill>
                <a:latin typeface="Arial"/>
              </a:rPr>
              <a:t>% как в этом прим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очные начинаются с символа «</a:t>
            </a:r>
            <a:r>
              <a:rPr b="0" lang="ru-RU" sz="2400" spc="-1" strike="noStrike">
                <a:solidFill>
                  <a:srgbClr val="ffff00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заканчиваются символом «</a:t>
            </a:r>
            <a:r>
              <a:rPr b="0" lang="ru-RU" sz="2400" spc="-1" strike="noStrike">
                <a:solidFill>
                  <a:srgbClr val="ffff00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1d31a"/>
                </a:solidFill>
                <a:latin typeface="Arial"/>
              </a:rPr>
              <a:t>%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1d31a"/>
                </a:solidFill>
                <a:latin typeface="Arial"/>
              </a:rPr>
              <a:t>эти символы должны обязательно стоять в отдельных строках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1d31a"/>
                </a:solidFill>
                <a:latin typeface="Arial"/>
              </a:rPr>
              <a:t>%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7733-DFFD-46E3-8187-DBDF1081BF74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704520" y="1063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о автоматически закомментировать блок текста. Для этог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елить бл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щёлкнуть правой кноп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рать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или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trl+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ять комментар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елить закомментированный бл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щёлкнуть правой кноп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рать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com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или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trl+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8D78-4E0E-4FFD-89F3-D52F6BAEEB51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Создание 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йл можно создать в любом текстовом редакт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во встроенном редакто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омощи мен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команд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edit &lt;</a:t>
            </a:r>
            <a:r>
              <a:rPr b="0" lang="ru-RU" sz="2400" spc="-1" strike="noStrike">
                <a:solidFill>
                  <a:srgbClr val="ffff00"/>
                </a:solidFill>
                <a:latin typeface="Courier New"/>
              </a:rPr>
              <a:t>имя файла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2" name="Picture 4" descr=""/>
          <p:cNvPicPr/>
          <p:nvPr/>
        </p:nvPicPr>
        <p:blipFill>
          <a:blip r:embed="rId1"/>
          <a:stretch/>
        </p:blipFill>
        <p:spPr>
          <a:xfrm>
            <a:off x="5292720" y="3500280"/>
            <a:ext cx="3600360" cy="1841760"/>
          </a:xfrm>
          <a:prstGeom prst="rect">
            <a:avLst/>
          </a:prstGeom>
          <a:ln w="0">
            <a:noFill/>
          </a:ln>
        </p:spPr>
      </p:pic>
      <p:sp>
        <p:nvSpPr>
          <p:cNvPr id="1253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2A1E-4E2D-41CE-8357-58D07509D46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Использование 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вызывается по своему имени (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оторое совпадает с именем её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айл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0" name="Picture 4" descr=""/>
          <p:cNvPicPr/>
          <p:nvPr/>
        </p:nvPicPr>
        <p:blipFill>
          <a:blip r:embed="rId1"/>
          <a:stretch/>
        </p:blipFill>
        <p:spPr>
          <a:xfrm>
            <a:off x="985680" y="2637000"/>
            <a:ext cx="7131240" cy="212724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6" descr=""/>
          <p:cNvPicPr/>
          <p:nvPr/>
        </p:nvPicPr>
        <p:blipFill>
          <a:blip r:embed="rId2"/>
          <a:stretch/>
        </p:blipFill>
        <p:spPr>
          <a:xfrm>
            <a:off x="3132000" y="4811760"/>
            <a:ext cx="3457800" cy="1689120"/>
          </a:xfrm>
          <a:prstGeom prst="rect">
            <a:avLst/>
          </a:prstGeom>
          <a:ln w="0">
            <a:noFill/>
          </a:ln>
        </p:spPr>
      </p:pic>
      <p:sp>
        <p:nvSpPr>
          <p:cNvPr id="1262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Числ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сновной базовый тип для матр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Хранятся в формате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ng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double)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тандарт плавающей точки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EE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нтервал приблизительно от </a:t>
            </a: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E</a:t>
            </a: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-30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до </a:t>
            </a: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E+</a:t>
            </a: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30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плексные числа строятся с применением суффиксов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нима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диница): </a:t>
            </a: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.4e7</a:t>
            </a: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+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3.005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6674-8AF7-42EF-A520-D1E08C0F866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BE25-BE78-4DC4-82DF-A9DB7E240BDC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Входные и выходные параметры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написании функций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о проводить проверку количества входных и выходных параме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этого в описании функции используют служебные сл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narg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ичество входных парамет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nargo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ичество выходных парамет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8DD7-F6DE-41CB-A0FB-A0AB7B29E967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4" name="Picture 4" descr=""/>
          <p:cNvPicPr/>
          <p:nvPr/>
        </p:nvPicPr>
        <p:blipFill>
          <a:blip r:embed="rId1"/>
          <a:stretch/>
        </p:blipFill>
        <p:spPr>
          <a:xfrm>
            <a:off x="961920" y="404640"/>
            <a:ext cx="3897360" cy="460872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6" descr=""/>
          <p:cNvPicPr/>
          <p:nvPr/>
        </p:nvPicPr>
        <p:blipFill>
          <a:blip r:embed="rId2"/>
          <a:stretch/>
        </p:blipFill>
        <p:spPr>
          <a:xfrm>
            <a:off x="6156360" y="293760"/>
            <a:ext cx="1728720" cy="6087960"/>
          </a:xfrm>
          <a:prstGeom prst="rect">
            <a:avLst/>
          </a:prstGeom>
          <a:ln w="0">
            <a:noFill/>
          </a:ln>
        </p:spPr>
      </p:pic>
      <p:sp>
        <p:nvSpPr>
          <p:cNvPr id="1276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1617-5CC8-4EF6-9D37-941D71D9E7B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Под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айлах-функция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огут быть реально описаны несколько фун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нтаксически это оформляется как две (или более) функций, записанных в одном фай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зове таког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йла происходит запуск самой первой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ё имя должно совпадать с именем фай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исание следующих функций лока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ычно они используются как вспомогательные для первой фун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43F1-B0D0-49F2-B850-403630B2AC01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8" name="Picture 8" descr=""/>
          <p:cNvPicPr/>
          <p:nvPr/>
        </p:nvPicPr>
        <p:blipFill>
          <a:blip r:embed="rId1"/>
          <a:stretch/>
        </p:blipFill>
        <p:spPr>
          <a:xfrm>
            <a:off x="560520" y="620640"/>
            <a:ext cx="8042040" cy="5180040"/>
          </a:xfrm>
          <a:prstGeom prst="rect">
            <a:avLst/>
          </a:prstGeom>
          <a:ln w="0">
            <a:noFill/>
          </a:ln>
        </p:spPr>
      </p:pic>
      <p:sp>
        <p:nvSpPr>
          <p:cNvPr id="1289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3223-7356-4E27-B937-C1F9240A04B1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Вложенные 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имо последовательного вложения в один файл функция может быть описана непосредственно в теле другой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ая функция называется 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вложе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оженная функция, в свою очередь, может содержать другие вложенные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6EFD-1FFC-4089-9BC5-298B7F4AB9C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1" name="Group 8"/>
          <p:cNvGrpSpPr/>
          <p:nvPr/>
        </p:nvGrpSpPr>
        <p:grpSpPr>
          <a:xfrm>
            <a:off x="663480" y="1268280"/>
            <a:ext cx="7795800" cy="3815640"/>
            <a:chOff x="663480" y="1268280"/>
            <a:chExt cx="7795800" cy="3815640"/>
          </a:xfrm>
        </p:grpSpPr>
        <p:pic>
          <p:nvPicPr>
            <p:cNvPr id="1302" name="Picture 4" descr=""/>
            <p:cNvPicPr/>
            <p:nvPr/>
          </p:nvPicPr>
          <p:blipFill>
            <a:blip r:embed="rId1"/>
            <a:stretch/>
          </p:blipFill>
          <p:spPr>
            <a:xfrm>
              <a:off x="663480" y="1268280"/>
              <a:ext cx="3574440" cy="37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Picture 6" descr=""/>
            <p:cNvPicPr/>
            <p:nvPr/>
          </p:nvPicPr>
          <p:blipFill>
            <a:blip r:embed="rId2"/>
            <a:stretch/>
          </p:blipFill>
          <p:spPr>
            <a:xfrm>
              <a:off x="4655520" y="1305720"/>
              <a:ext cx="3803760" cy="377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4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D152-F3A1-4162-8813-75D47370736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Создание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p-</a:t>
            </a: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код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зов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йла сравнительно много времени тратится на его компиля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сократить время выполнения можно предварительно перевест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файл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д («пи-код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анда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pcod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&lt;</a:t>
            </a:r>
            <a:r>
              <a:rPr b="0" lang="ru-RU" sz="2400" spc="-1" strike="noStrike">
                <a:solidFill>
                  <a:srgbClr val="ffff00"/>
                </a:solidFill>
                <a:latin typeface="Courier New"/>
              </a:rPr>
              <a:t>имя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m-</a:t>
            </a:r>
            <a:r>
              <a:rPr b="0" lang="ru-RU" sz="2400" spc="-1" strike="noStrike">
                <a:solidFill>
                  <a:srgbClr val="ffff00"/>
                </a:solidFill>
                <a:latin typeface="Courier New"/>
              </a:rPr>
              <a:t>файла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компилированный в псевдокод файл получает расширение «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ой файл будет выполняться быстрее, чем обычны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8796-FBB5-4ED4-9EAB-2B74992594EC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Интерактивный ввод данных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ется при написании скрип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ввод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вых данных применяют функцию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форма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x = input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строка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приглашения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ведённое пользователем значение сохранится в переменно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ввод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ковых данных функция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зывается с дополнительным параметр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c = input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строка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приглашения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’,’s’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оме того, имеется Си-подобная функция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ssca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EB5C-683F-485F-9EC2-85C5230D8CE2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Пример использования </a:t>
            </a:r>
            <a:r>
              <a:rPr b="1" lang="en-US" sz="4600" spc="-1" strike="noStrike">
                <a:solidFill>
                  <a:srgbClr val="ffff00"/>
                </a:solidFill>
                <a:latin typeface="Courier New"/>
              </a:rPr>
              <a:t>inpu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324" name="Picture 4" descr=""/>
          <p:cNvPicPr/>
          <p:nvPr/>
        </p:nvPicPr>
        <p:blipFill>
          <a:blip r:embed="rId1"/>
          <a:stretch/>
        </p:blipFill>
        <p:spPr>
          <a:xfrm>
            <a:off x="250920" y="1785960"/>
            <a:ext cx="8640720" cy="113832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6" descr=""/>
          <p:cNvPicPr/>
          <p:nvPr/>
        </p:nvPicPr>
        <p:blipFill>
          <a:blip r:embed="rId2"/>
          <a:stretch/>
        </p:blipFill>
        <p:spPr>
          <a:xfrm>
            <a:off x="1908000" y="3573360"/>
            <a:ext cx="5185080" cy="2370240"/>
          </a:xfrm>
          <a:prstGeom prst="rect">
            <a:avLst/>
          </a:prstGeom>
          <a:ln w="0">
            <a:noFill/>
          </a:ln>
        </p:spPr>
      </p:pic>
      <p:sp>
        <p:nvSpPr>
          <p:cNvPr id="1326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9A32-BF40-470C-97C1-5581E11151F4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Вывод данных в командное окно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этого используют команду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dis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spl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форма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disp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&lt;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выводимая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строка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ыводимое значение – число, то вначале его преобразуют к строковому типу при помощи функций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int2st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num2st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атенацию строк производят как для одномерных векторов-ст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3" name="Picture 4" descr=""/>
          <p:cNvPicPr/>
          <p:nvPr/>
        </p:nvPicPr>
        <p:blipFill>
          <a:blip r:embed="rId1"/>
          <a:stretch/>
        </p:blipFill>
        <p:spPr>
          <a:xfrm>
            <a:off x="2340000" y="4581360"/>
            <a:ext cx="4967280" cy="1347840"/>
          </a:xfrm>
          <a:prstGeom prst="rect">
            <a:avLst/>
          </a:prstGeom>
          <a:ln w="0">
            <a:noFill/>
          </a:ln>
        </p:spPr>
      </p:pic>
      <p:sp>
        <p:nvSpPr>
          <p:cNvPr id="1334" name="Text Box 7"/>
          <p:cNvSpPr/>
          <p:nvPr/>
        </p:nvSpPr>
        <p:spPr>
          <a:xfrm>
            <a:off x="539640" y="6021360"/>
            <a:ext cx="80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ром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ого, имеется Си-подобная функция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Arial"/>
              </a:rPr>
              <a:t>sprint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Другие тип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о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ссивы структур (записей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ссивы ячее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зволяют объединять в массиве элементы разной приро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ъек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079B-5B09-4F71-B04A-EF35DD0ECDE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1B0B-4408-4D84-A980-2E4F212AFD4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Основные языковые конструкци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и любой процедурный язык высокого уровня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lab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зволяет использовать при написании програм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лед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етвл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цикл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льзовательские функц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06AC-3B13-4F9D-936A-7BBA4881FB8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Следов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ализуется перечислением каждого из операторов в отдельной стро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ибо в одной строке через запятую (или точку с запятой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8961-7C13-4DEC-BCE4-4901ECAEAF7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Ветвл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ализуется в двух вариантах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 помощи оператора </a:t>
            </a:r>
            <a:r>
              <a:rPr b="0" lang="en-US" sz="2600" spc="-1" strike="noStrike">
                <a:solidFill>
                  <a:srgbClr val="ffff00"/>
                </a:solidFill>
                <a:latin typeface="Courier New"/>
              </a:rPr>
              <a:t>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 помощи оператора </a:t>
            </a:r>
            <a:r>
              <a:rPr b="0" lang="en-US" sz="2600" spc="-1" strike="noStrike">
                <a:solidFill>
                  <a:srgbClr val="ffff00"/>
                </a:solidFill>
                <a:latin typeface="Courier New"/>
              </a:rPr>
              <a:t>swit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6A3D-1E20-4022-8379-BB04B2B0BACC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Оператор </a:t>
            </a:r>
            <a:r>
              <a:rPr b="1" lang="en-US" sz="4600" spc="-1" strike="noStrike">
                <a:solidFill>
                  <a:srgbClr val="ffff00"/>
                </a:solidFill>
                <a:latin typeface="Courier New"/>
              </a:rPr>
              <a:t>if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ейшая фор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&lt;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логическое выражение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операторы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3" name="Picture 4" descr=""/>
          <p:cNvPicPr/>
          <p:nvPr/>
        </p:nvPicPr>
        <p:blipFill>
          <a:blip r:embed="rId1"/>
          <a:stretch/>
        </p:blipFill>
        <p:spPr>
          <a:xfrm>
            <a:off x="2340000" y="3933720"/>
            <a:ext cx="4681440" cy="1857600"/>
          </a:xfrm>
          <a:prstGeom prst="rect">
            <a:avLst/>
          </a:prstGeom>
          <a:ln w="0">
            <a:noFill/>
          </a:ln>
        </p:spPr>
      </p:pic>
      <p:sp>
        <p:nvSpPr>
          <p:cNvPr id="1364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Номер слайда 6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5099-4D99-4AFE-96D2-681735722354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Полный формат оператора </a:t>
            </a:r>
            <a:r>
              <a:rPr b="1" lang="en-US" sz="4600" spc="-1" strike="noStrike">
                <a:solidFill>
                  <a:srgbClr val="ffff00"/>
                </a:solidFill>
                <a:latin typeface="Courier New"/>
              </a:rPr>
              <a:t>if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лном варианте оператора могут использоваться слова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else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elseif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ет использоваться в одном операторе многократно с указанием усл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els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олько один раз в конце оператора и без усл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1" name="Picture 5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8229600" cy="2187720"/>
          </a:xfrm>
          <a:prstGeom prst="rect">
            <a:avLst/>
          </a:prstGeom>
          <a:ln w="0">
            <a:noFill/>
          </a:ln>
        </p:spPr>
      </p:pic>
      <p:sp>
        <p:nvSpPr>
          <p:cNvPr id="1372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DD9E-7BDC-4FE5-B28D-0A4DE63719B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Цикл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lab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меется два вида циклов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цикл с параметром </a:t>
            </a:r>
            <a:r>
              <a:rPr b="0" lang="en-US" sz="2600" spc="-1" strike="noStrike">
                <a:solidFill>
                  <a:srgbClr val="ffff00"/>
                </a:solidFill>
                <a:latin typeface="Courier New"/>
              </a:rPr>
              <a:t>f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цикл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предусловие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ourier New"/>
              </a:rPr>
              <a:t>whi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акже имеютс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ператор досрочного выхода из цикла </a:t>
            </a:r>
            <a:r>
              <a:rPr b="0" lang="en-US" sz="2600" spc="-1" strike="noStrike">
                <a:solidFill>
                  <a:srgbClr val="ffff00"/>
                </a:solidFill>
                <a:latin typeface="Courier New"/>
              </a:rPr>
              <a:t>brea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ператор перехода к следующей итерации </a:t>
            </a:r>
            <a:r>
              <a:rPr b="0" lang="en-US" sz="2600" spc="-1" strike="noStrike">
                <a:solidFill>
                  <a:srgbClr val="ffff00"/>
                </a:solidFill>
                <a:latin typeface="Courier New"/>
              </a:rPr>
              <a:t>contin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Номер слайда 7"/>
          <p:cNvSpPr/>
          <p:nvPr/>
        </p:nvSpPr>
        <p:spPr>
          <a:xfrm>
            <a:off x="6732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2661-AD67-4472-9C79-4B532A9D0CE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Цикл с параметром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385" name="Group 10"/>
          <p:cNvGrpSpPr/>
          <p:nvPr/>
        </p:nvGrpSpPr>
        <p:grpSpPr>
          <a:xfrm>
            <a:off x="1763640" y="1628640"/>
            <a:ext cx="6121080" cy="4824000"/>
            <a:chOff x="1763640" y="1628640"/>
            <a:chExt cx="6121080" cy="4824000"/>
          </a:xfrm>
        </p:grpSpPr>
        <p:pic>
          <p:nvPicPr>
            <p:cNvPr id="1386" name="Picture 4" descr=""/>
            <p:cNvPicPr/>
            <p:nvPr/>
          </p:nvPicPr>
          <p:blipFill>
            <a:blip r:embed="rId1"/>
            <a:stretch/>
          </p:blipFill>
          <p:spPr>
            <a:xfrm>
              <a:off x="1763640" y="1628640"/>
              <a:ext cx="6121080" cy="12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Picture 6" descr=""/>
            <p:cNvPicPr/>
            <p:nvPr/>
          </p:nvPicPr>
          <p:blipFill>
            <a:blip r:embed="rId2"/>
            <a:stretch/>
          </p:blipFill>
          <p:spPr>
            <a:xfrm>
              <a:off x="1876680" y="3155040"/>
              <a:ext cx="442080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Picture 8" descr=""/>
            <p:cNvPicPr/>
            <p:nvPr/>
          </p:nvPicPr>
          <p:blipFill>
            <a:blip r:embed="rId3"/>
            <a:stretch/>
          </p:blipFill>
          <p:spPr>
            <a:xfrm>
              <a:off x="1991520" y="4685040"/>
              <a:ext cx="4797720" cy="176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9" name="AutoShape 5">
            <a:hlinkClick r:id="rId4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5F77-1E43-4D0F-A0D3-FC398D9AC0F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Замечание по использованию цикла с параметром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ычно цикл </a:t>
            </a:r>
            <a:r>
              <a:rPr b="0" lang="en-US" sz="3000" spc="-1" strike="noStrike">
                <a:solidFill>
                  <a:srgbClr val="ffff00"/>
                </a:solidFill>
                <a:latin typeface="Courier New"/>
              </a:rPr>
              <a:t>fo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пользуется для обработки массив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ажно помнить, что если есть возможность обойтись без этого цикла (применить матричные или векторные операции), то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лучше избавиться от явного цик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этом случае программа будет работать на порядок быстре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0682-4807-48A2-AFCA-10F8A90F655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Пример: замена отрицательных элементов вектора на нули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(с циклом)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402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57920" cy="4751280"/>
          </a:xfrm>
          <a:prstGeom prst="rect">
            <a:avLst/>
          </a:prstGeom>
          <a:ln w="0">
            <a:noFill/>
          </a:ln>
        </p:spPr>
      </p:pic>
      <p:sp>
        <p:nvSpPr>
          <p:cNvPr id="1403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BBE0-15AA-4384-B38F-E1A2B923669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Пример: замена отрицательных элементов вектора на нули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(без цикла)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409" name="Picture 4" descr=""/>
          <p:cNvPicPr/>
          <p:nvPr/>
        </p:nvPicPr>
        <p:blipFill>
          <a:blip r:embed="rId1"/>
          <a:stretch/>
        </p:blipFill>
        <p:spPr>
          <a:xfrm>
            <a:off x="1690560" y="1773360"/>
            <a:ext cx="5977080" cy="4771800"/>
          </a:xfrm>
          <a:prstGeom prst="rect">
            <a:avLst/>
          </a:prstGeom>
          <a:ln w="0">
            <a:noFill/>
          </a:ln>
        </p:spPr>
      </p:pic>
      <p:sp>
        <p:nvSpPr>
          <p:cNvPr id="1410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Переменные и выраж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еменные определяются пользователем при помощи оператора присваивания: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x=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левой части – имя переменн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заглавные и строчные буквы различаютс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правой части оператора присваивания может стоять выражение: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y=(2-x)/(x+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сли выражение встречается вне оператора присваивания, то его значение вычисляется и помещается в системную переменную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ans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(от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sw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еменную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ans</a:t>
            </a:r>
            <a:r>
              <a:rPr b="0" lang="ru-RU" sz="2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жно использовать для задания новых выражений: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z=ans*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сли оператор присваивания завершить символом «</a:t>
            </a:r>
            <a:r>
              <a:rPr b="0" lang="ru-RU" sz="22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», то результат на экране не дублируется; в противном случае – выводится на экран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A070-D060-46B8-B0BC-D51C876FF5E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CF62-3EE2-42AC-B1AF-B968A26E5EDC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Цикл с предусловием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интаксис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while &lt;</a:t>
            </a: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логическое выражение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операторы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ераторы выполняются, пока логическое выражение есть истина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tru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B850-09EF-4BF4-A920-25197450E7C6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2" name="Picture 4" descr=""/>
          <p:cNvPicPr/>
          <p:nvPr/>
        </p:nvPicPr>
        <p:blipFill>
          <a:blip r:embed="rId1"/>
          <a:stretch/>
        </p:blipFill>
        <p:spPr>
          <a:xfrm>
            <a:off x="468360" y="797040"/>
            <a:ext cx="8288280" cy="4863960"/>
          </a:xfrm>
          <a:prstGeom prst="rect">
            <a:avLst/>
          </a:prstGeom>
          <a:ln w="0">
            <a:noFill/>
          </a:ln>
        </p:spPr>
      </p:pic>
      <p:sp>
        <p:nvSpPr>
          <p:cNvPr id="1423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8332-0223-4C4D-9F5E-7831850225F8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Операторы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и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inu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налогичны одноимённым операторам Паскал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Brea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изводит досрочный выход из цикла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wh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Continu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екращает выполнение текущей итерации и переходит к следующ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07A0-11FE-4AF0-92F2-F5750D8C430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Операторы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и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inue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(пример)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писать скрипт, который вводит с клавиатуры произвольное количество чисел. Если число положительное, то оно прибавляется к сумме, если отрицательное, то пропускается. Ноль – признак окончания раб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8509-8E13-4716-B9DB-C81A7189AA6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Операторы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и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inue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(решение)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443" name="Picture 5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993080" cy="3740040"/>
          </a:xfrm>
          <a:prstGeom prst="rect">
            <a:avLst/>
          </a:prstGeom>
          <a:ln w="0">
            <a:noFill/>
          </a:ln>
        </p:spPr>
      </p:pic>
      <p:sp>
        <p:nvSpPr>
          <p:cNvPr id="1444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391B-4325-4C01-B87E-7E7C51EA1C5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704520" y="1211400"/>
            <a:ext cx="7467480" cy="300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Franklin Gothic Book"/>
              </a:rPr>
              <a:t>АНАЛИТИЧЕСКИЕ ВЫЧИСЛЕНИЯ В </a:t>
            </a:r>
            <a:r>
              <a:rPr b="0" lang="en-US" sz="5400" spc="-1" strike="noStrike">
                <a:solidFill>
                  <a:srgbClr val="ffff00"/>
                </a:solidFill>
                <a:latin typeface="Franklin Gothic Book"/>
              </a:rPr>
              <a:t>MATLAB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0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AC11-D07F-46DB-BE09-AD08E9E5C73C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Вычисления в </a:t>
            </a: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Matlab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: вычисление определённого интегра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>
              <a:spcBef>
                <a:spcPts val="700"/>
              </a:spcBef>
              <a:buClr>
                <a:srgbClr val="4e67c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формуле Ньютона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(x)|</a:t>
            </a:r>
            <a:r>
              <a:rPr b="0" i="1" lang="en-US" sz="2800" spc="-1" strike="noStrike" baseline="-38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n-US" sz="2800" spc="-1" strike="noStrike" baseline="46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=F(b) – F(a)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ообраз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43416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ем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оч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езульт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43416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первообразную не всегда можно най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>
              <a:spcBef>
                <a:spcPts val="700"/>
              </a:spcBef>
              <a:buClr>
                <a:srgbClr val="4e67c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енно: методом прямоугольников, трапеций, Симпсон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43416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 пользоваться даже тогда, когда интеграл «не берётся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43416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при вычислении возникают погреш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7" name="Object 4"/>
          <p:cNvGraphicFramePr/>
          <p:nvPr/>
        </p:nvGraphicFramePr>
        <p:xfrm>
          <a:off x="7415280" y="1413000"/>
          <a:ext cx="79524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5280" y="1413000"/>
                    <a:ext cx="7952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9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559A-76B7-4188-8165-5EA80070E411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Средства </a:t>
            </a: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Matlab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начальн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л средства только для численного анали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годня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троены средства аналитических (символьных) вычис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olic Math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вычислительным ядром систем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le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к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l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реб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18D6-B2B7-4AE3-AB08-A073FD457EF6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оздание символьных переменных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имвольного анализа требуется создать символьные переменные и фун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мвольные переменные созд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одн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x=sym(’x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же можно создать целое символьное выра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колько сраз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yms x y 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мвольные функции определяются через символьные переменные: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=x^2+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остроения символьных функций можно воспользоваться командо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zp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ставить в стандартной форме – командой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et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7260-BD35-4071-B88D-3BF7B9C00A5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8" name="Picture 3" descr=""/>
          <p:cNvPicPr/>
          <p:nvPr/>
        </p:nvPicPr>
        <p:blipFill>
          <a:blip r:embed="rId1"/>
          <a:stretch/>
        </p:blipFill>
        <p:spPr>
          <a:xfrm>
            <a:off x="1474920" y="333360"/>
            <a:ext cx="6338880" cy="5961240"/>
          </a:xfrm>
          <a:prstGeom prst="rect">
            <a:avLst/>
          </a:prstGeom>
          <a:ln w="0">
            <a:noFill/>
          </a:ln>
        </p:spPr>
      </p:pic>
      <p:sp>
        <p:nvSpPr>
          <p:cNvPr id="1479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54FD-E8C7-4C47-8B07-9E73876687C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1123920" y="1995480"/>
            <a:ext cx="6896160" cy="286704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0E55-94BB-4AB9-8390-D9AE2EA9DB04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едставление символьных переменных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485" name="Picture 6" descr=""/>
          <p:cNvPicPr/>
          <p:nvPr/>
        </p:nvPicPr>
        <p:blipFill>
          <a:blip r:embed="rId1"/>
          <a:stretch/>
        </p:blipFill>
        <p:spPr>
          <a:xfrm>
            <a:off x="696960" y="1700280"/>
            <a:ext cx="7726320" cy="3384360"/>
          </a:xfrm>
          <a:prstGeom prst="rect">
            <a:avLst/>
          </a:prstGeom>
          <a:ln w="0">
            <a:noFill/>
          </a:ln>
        </p:spPr>
      </p:pic>
      <p:sp>
        <p:nvSpPr>
          <p:cNvPr id="1486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F3CA-3E6D-4EDC-B802-92DCC08E41F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Символьные вычисл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образования математического анализ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44784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фференциро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44784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ел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44784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гриро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44784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ожение в ряд Тейл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ощение и подстан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чная арифме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нейная алгеб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 уравнений и их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44784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ычных и дифференциа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487C-3013-4C5A-AB14-C89CB3EDF9C5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Дифференциров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499" name="Picture 5" descr=""/>
          <p:cNvPicPr/>
          <p:nvPr/>
        </p:nvPicPr>
        <p:blipFill>
          <a:blip r:embed="rId1"/>
          <a:stretch/>
        </p:blipFill>
        <p:spPr>
          <a:xfrm>
            <a:off x="2116080" y="1052640"/>
            <a:ext cx="4619520" cy="5256000"/>
          </a:xfrm>
          <a:prstGeom prst="rect">
            <a:avLst/>
          </a:prstGeom>
          <a:ln w="0">
            <a:noFill/>
          </a:ln>
        </p:spPr>
      </p:pic>
      <p:sp>
        <p:nvSpPr>
          <p:cNvPr id="1500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47EE-FF53-4BD7-81BA-8E76E1E3F4F1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Частные производ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06" name="Picture 5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59880" cy="4608720"/>
          </a:xfrm>
          <a:prstGeom prst="rect">
            <a:avLst/>
          </a:prstGeom>
          <a:ln w="0">
            <a:noFill/>
          </a:ln>
        </p:spPr>
      </p:pic>
      <p:sp>
        <p:nvSpPr>
          <p:cNvPr id="1507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EA6F-9C17-480B-87FC-6576B491A5BD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2" name="Picture 5" descr=""/>
          <p:cNvPicPr/>
          <p:nvPr/>
        </p:nvPicPr>
        <p:blipFill>
          <a:blip r:embed="rId1"/>
          <a:stretch/>
        </p:blipFill>
        <p:spPr>
          <a:xfrm>
            <a:off x="1620720" y="260280"/>
            <a:ext cx="6191280" cy="6078600"/>
          </a:xfrm>
          <a:prstGeom prst="rect">
            <a:avLst/>
          </a:prstGeom>
          <a:ln w="0">
            <a:noFill/>
          </a:ln>
        </p:spPr>
      </p:pic>
      <p:sp>
        <p:nvSpPr>
          <p:cNvPr id="1513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96E-28E7-48FD-8056-E1274541836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Предел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19" name="Picture 2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8208720" cy="3514680"/>
          </a:xfrm>
          <a:prstGeom prst="rect">
            <a:avLst/>
          </a:prstGeom>
          <a:ln w="0">
            <a:noFill/>
          </a:ln>
        </p:spPr>
      </p:pic>
      <p:sp>
        <p:nvSpPr>
          <p:cNvPr id="1520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Номер слайда 6"/>
          <p:cNvSpPr/>
          <p:nvPr/>
        </p:nvSpPr>
        <p:spPr>
          <a:xfrm>
            <a:off x="6732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2241-09E6-41F1-9869-B9B294955EFD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Односторонние предел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76200" y="126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)=x/|x|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7" name="Picture 7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616720" cy="4470480"/>
          </a:xfrm>
          <a:prstGeom prst="rect">
            <a:avLst/>
          </a:prstGeom>
          <a:ln w="0">
            <a:noFill/>
          </a:ln>
        </p:spPr>
      </p:pic>
      <p:sp>
        <p:nvSpPr>
          <p:cNvPr id="1528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56CE-4AF4-4198-AA6B-BD553C08F30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3" name="Picture 7" descr=""/>
          <p:cNvPicPr/>
          <p:nvPr/>
        </p:nvPicPr>
        <p:blipFill>
          <a:blip r:embed="rId1"/>
          <a:stretch/>
        </p:blipFill>
        <p:spPr>
          <a:xfrm>
            <a:off x="1576440" y="1052640"/>
            <a:ext cx="6091200" cy="4765680"/>
          </a:xfrm>
          <a:prstGeom prst="rect">
            <a:avLst/>
          </a:prstGeom>
          <a:ln w="0">
            <a:noFill/>
          </a:ln>
        </p:spPr>
      </p:pic>
      <p:sp>
        <p:nvSpPr>
          <p:cNvPr id="1534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7DC0-D130-421C-8E2F-E442904E4FBC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Пределы</a:t>
            </a: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(сводная таблица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40" name="Picture 5" descr=""/>
          <p:cNvPicPr/>
          <p:nvPr/>
        </p:nvPicPr>
        <p:blipFill>
          <a:blip r:embed="rId1"/>
          <a:stretch/>
        </p:blipFill>
        <p:spPr>
          <a:xfrm>
            <a:off x="1222200" y="1484280"/>
            <a:ext cx="6767640" cy="4248360"/>
          </a:xfrm>
          <a:prstGeom prst="rect">
            <a:avLst/>
          </a:prstGeom>
          <a:ln w="0">
            <a:noFill/>
          </a:ln>
        </p:spPr>
      </p:pic>
      <p:sp>
        <p:nvSpPr>
          <p:cNvPr id="1541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3889-7B44-44FC-8005-C3FA9FD4307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860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Интеграл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47" name="Picture 5" descr=""/>
          <p:cNvPicPr/>
          <p:nvPr/>
        </p:nvPicPr>
        <p:blipFill>
          <a:blip r:embed="rId1"/>
          <a:stretch/>
        </p:blipFill>
        <p:spPr>
          <a:xfrm>
            <a:off x="971640" y="1386000"/>
            <a:ext cx="7200720" cy="4952880"/>
          </a:xfrm>
          <a:prstGeom prst="rect">
            <a:avLst/>
          </a:prstGeom>
          <a:ln w="0">
            <a:noFill/>
          </a:ln>
        </p:spPr>
      </p:pic>
      <p:sp>
        <p:nvSpPr>
          <p:cNvPr id="1548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Оператор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 составлении выражений могут быть использованы операторы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urier New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слож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urier New"/>
              </a:rPr>
              <a:t>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вычит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множ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дел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^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озведение в степен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оритет операций обычный. Изменяется при помощи круглых скоб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C146-2E2E-49E5-9FEA-9390DB15548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24CE-62A1-4942-BAAE-9F8CE460C3FD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Интегралы с параметрам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54" name="Picture 5" descr=""/>
          <p:cNvPicPr/>
          <p:nvPr/>
        </p:nvPicPr>
        <p:blipFill>
          <a:blip r:embed="rId1"/>
          <a:stretch/>
        </p:blipFill>
        <p:spPr>
          <a:xfrm>
            <a:off x="1620720" y="907920"/>
            <a:ext cx="6193080" cy="5469120"/>
          </a:xfrm>
          <a:prstGeom prst="rect">
            <a:avLst/>
          </a:prstGeom>
          <a:ln w="0">
            <a:noFill/>
          </a:ln>
        </p:spPr>
      </p:pic>
      <p:sp>
        <p:nvSpPr>
          <p:cNvPr id="1555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EC7A-DADB-4B0F-8F1C-0927CA95BEF1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0" name="Group 8"/>
          <p:cNvGrpSpPr/>
          <p:nvPr/>
        </p:nvGrpSpPr>
        <p:grpSpPr>
          <a:xfrm>
            <a:off x="1273320" y="333360"/>
            <a:ext cx="6757560" cy="6048000"/>
            <a:chOff x="1273320" y="333360"/>
            <a:chExt cx="6757560" cy="6048000"/>
          </a:xfrm>
        </p:grpSpPr>
        <p:pic>
          <p:nvPicPr>
            <p:cNvPr id="1561" name="Picture 5" descr=""/>
            <p:cNvPicPr/>
            <p:nvPr/>
          </p:nvPicPr>
          <p:blipFill>
            <a:blip r:embed="rId1"/>
            <a:stretch/>
          </p:blipFill>
          <p:spPr>
            <a:xfrm>
              <a:off x="1273320" y="333360"/>
              <a:ext cx="6757560" cy="60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2" name="Text Box 7"/>
            <p:cNvSpPr/>
            <p:nvPr/>
          </p:nvSpPr>
          <p:spPr>
            <a:xfrm>
              <a:off x="5375520" y="2577240"/>
              <a:ext cx="2093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~ --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это признак действительного чис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3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EE14-9F0B-486D-99D8-902B451E14F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Суммиров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69" name="Picture 6" descr=""/>
          <p:cNvPicPr/>
          <p:nvPr/>
        </p:nvPicPr>
        <p:blipFill>
          <a:blip r:embed="rId1"/>
          <a:stretch/>
        </p:blipFill>
        <p:spPr>
          <a:xfrm>
            <a:off x="1873080" y="1197000"/>
            <a:ext cx="5616720" cy="4968720"/>
          </a:xfrm>
          <a:prstGeom prst="rect">
            <a:avLst/>
          </a:prstGeom>
          <a:ln w="0">
            <a:noFill/>
          </a:ln>
        </p:spPr>
      </p:pic>
      <p:sp>
        <p:nvSpPr>
          <p:cNvPr id="1570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7F26-760E-43DA-8237-A787D9024C0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860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Разложение в ряд Тейло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576" name="Group 13"/>
          <p:cNvGrpSpPr/>
          <p:nvPr/>
        </p:nvGrpSpPr>
        <p:grpSpPr>
          <a:xfrm>
            <a:off x="158760" y="1413000"/>
            <a:ext cx="8805960" cy="4556160"/>
            <a:chOff x="158760" y="1413000"/>
            <a:chExt cx="8805960" cy="4556160"/>
          </a:xfrm>
        </p:grpSpPr>
        <p:pic>
          <p:nvPicPr>
            <p:cNvPr id="1577" name="Picture 5" descr="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280836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Picture 10" descr=""/>
            <p:cNvPicPr/>
            <p:nvPr/>
          </p:nvPicPr>
          <p:blipFill>
            <a:blip r:embed="rId2"/>
            <a:stretch/>
          </p:blipFill>
          <p:spPr>
            <a:xfrm>
              <a:off x="3059280" y="1413000"/>
              <a:ext cx="5905440" cy="45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9" name="Text Box 12"/>
            <p:cNvSpPr/>
            <p:nvPr/>
          </p:nvSpPr>
          <p:spPr>
            <a:xfrm>
              <a:off x="158760" y="3305160"/>
              <a:ext cx="2181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пробуйте также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манду </a:t>
              </a:r>
              <a:r>
                <a:rPr b="0" lang="en-US" sz="1800" spc="-1" strike="noStrike">
                  <a:solidFill>
                    <a:srgbClr val="ffff00"/>
                  </a:solidFill>
                  <a:latin typeface="Courier New"/>
                  <a:ea typeface="Arial"/>
                </a:rPr>
                <a:t>taylorto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0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5D4C-9761-44FB-8839-EF6DC68D3A33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5" name="Group 11"/>
          <p:cNvGrpSpPr/>
          <p:nvPr/>
        </p:nvGrpSpPr>
        <p:grpSpPr>
          <a:xfrm>
            <a:off x="320760" y="476280"/>
            <a:ext cx="8672040" cy="5655960"/>
            <a:chOff x="320760" y="476280"/>
            <a:chExt cx="8672040" cy="5655960"/>
          </a:xfrm>
        </p:grpSpPr>
        <p:pic>
          <p:nvPicPr>
            <p:cNvPr id="1586" name="Picture 7" descr=""/>
            <p:cNvPicPr/>
            <p:nvPr/>
          </p:nvPicPr>
          <p:blipFill>
            <a:blip r:embed="rId1"/>
            <a:stretch/>
          </p:blipFill>
          <p:spPr>
            <a:xfrm>
              <a:off x="320760" y="1451880"/>
              <a:ext cx="7521480" cy="46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Picture 9" descr=""/>
            <p:cNvPicPr/>
            <p:nvPr/>
          </p:nvPicPr>
          <p:blipFill>
            <a:blip r:embed="rId2"/>
            <a:stretch/>
          </p:blipFill>
          <p:spPr>
            <a:xfrm>
              <a:off x="4619520" y="476280"/>
              <a:ext cx="4373280" cy="381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8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Номер слайда 7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CC2B-001B-4EA2-975B-74B35D2742BD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Пример: исследование 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594" name="Group 12"/>
          <p:cNvGrpSpPr/>
          <p:nvPr/>
        </p:nvGrpSpPr>
        <p:grpSpPr>
          <a:xfrm>
            <a:off x="108000" y="1341360"/>
            <a:ext cx="8856000" cy="4687560"/>
            <a:chOff x="108000" y="1341360"/>
            <a:chExt cx="8856000" cy="4687560"/>
          </a:xfrm>
        </p:grpSpPr>
        <p:pic>
          <p:nvPicPr>
            <p:cNvPr id="1595" name="Picture 6" descr=""/>
            <p:cNvPicPr/>
            <p:nvPr/>
          </p:nvPicPr>
          <p:blipFill>
            <a:blip r:embed="rId1"/>
            <a:stretch/>
          </p:blipFill>
          <p:spPr>
            <a:xfrm>
              <a:off x="402120" y="4714920"/>
              <a:ext cx="2805120" cy="13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Picture 8" descr=""/>
            <p:cNvPicPr/>
            <p:nvPr/>
          </p:nvPicPr>
          <p:blipFill>
            <a:blip r:embed="rId2"/>
            <a:stretch/>
          </p:blipFill>
          <p:spPr>
            <a:xfrm>
              <a:off x="108000" y="1341360"/>
              <a:ext cx="4501800" cy="30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Picture 10" descr=""/>
            <p:cNvPicPr/>
            <p:nvPr/>
          </p:nvPicPr>
          <p:blipFill>
            <a:blip r:embed="rId3"/>
            <a:stretch/>
          </p:blipFill>
          <p:spPr>
            <a:xfrm>
              <a:off x="4609800" y="1341360"/>
              <a:ext cx="4354200" cy="379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8" name="AutoShape 5">
            <a:hlinkClick r:id="rId4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75D1-995A-4D92-A1C2-D2E9D440EEA2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йдём горизонтальную асимптоту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604" name="Picture 7" descr=""/>
          <p:cNvPicPr/>
          <p:nvPr/>
        </p:nvPicPr>
        <p:blipFill>
          <a:blip r:embed="rId1"/>
          <a:stretch/>
        </p:blipFill>
        <p:spPr>
          <a:xfrm>
            <a:off x="2268360" y="1596960"/>
            <a:ext cx="4607280" cy="4532400"/>
          </a:xfrm>
          <a:prstGeom prst="rect">
            <a:avLst/>
          </a:prstGeom>
          <a:ln w="0">
            <a:noFill/>
          </a:ln>
        </p:spPr>
      </p:pic>
      <p:sp>
        <p:nvSpPr>
          <p:cNvPr id="1605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Номер слайда 7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F825-B722-4D74-BFE0-1779002331F6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Найдём вертикальные асимпто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611" name="Group 11"/>
          <p:cNvGrpSpPr/>
          <p:nvPr/>
        </p:nvGrpSpPr>
        <p:grpSpPr>
          <a:xfrm>
            <a:off x="1332000" y="1628640"/>
            <a:ext cx="6986160" cy="4608360"/>
            <a:chOff x="1332000" y="1628640"/>
            <a:chExt cx="6986160" cy="4608360"/>
          </a:xfrm>
        </p:grpSpPr>
        <p:pic>
          <p:nvPicPr>
            <p:cNvPr id="1612" name="Picture 5" descr=""/>
            <p:cNvPicPr/>
            <p:nvPr/>
          </p:nvPicPr>
          <p:blipFill>
            <a:blip r:embed="rId1"/>
            <a:stretch/>
          </p:blipFill>
          <p:spPr>
            <a:xfrm>
              <a:off x="1332000" y="1628640"/>
              <a:ext cx="6986160" cy="29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Picture 7" descr=""/>
            <p:cNvPicPr/>
            <p:nvPr/>
          </p:nvPicPr>
          <p:blipFill>
            <a:blip r:embed="rId2"/>
            <a:stretch/>
          </p:blipFill>
          <p:spPr>
            <a:xfrm>
              <a:off x="2115720" y="5309640"/>
              <a:ext cx="204228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Picture 9" descr=""/>
            <p:cNvPicPr/>
            <p:nvPr/>
          </p:nvPicPr>
          <p:blipFill>
            <a:blip r:embed="rId3"/>
            <a:stretch/>
          </p:blipFill>
          <p:spPr>
            <a:xfrm>
              <a:off x="5177160" y="5309640"/>
              <a:ext cx="1806840" cy="88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5" name="AutoShape 5">
            <a:hlinkClick r:id="rId4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8D6E-9F5F-4B6F-B2D2-F5496FD9698C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Код для построения асимпто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621" name="Picture 5" descr=""/>
          <p:cNvPicPr/>
          <p:nvPr/>
        </p:nvPicPr>
        <p:blipFill>
          <a:blip r:embed="rId1"/>
          <a:stretch/>
        </p:blipFill>
        <p:spPr>
          <a:xfrm>
            <a:off x="595440" y="1916280"/>
            <a:ext cx="7940520" cy="3600360"/>
          </a:xfrm>
          <a:prstGeom prst="rect">
            <a:avLst/>
          </a:prstGeom>
          <a:ln w="0">
            <a:noFill/>
          </a:ln>
        </p:spPr>
      </p:pic>
      <p:sp>
        <p:nvSpPr>
          <p:cNvPr id="1622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ABE1-D12E-4C2E-BF50-59FA19D2A00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Изображение асимпто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628" name="Picture 7" descr=""/>
          <p:cNvPicPr/>
          <p:nvPr/>
        </p:nvPicPr>
        <p:blipFill>
          <a:blip r:embed="rId1"/>
          <a:stretch/>
        </p:blipFill>
        <p:spPr>
          <a:xfrm>
            <a:off x="1547640" y="1311120"/>
            <a:ext cx="6264360" cy="5070600"/>
          </a:xfrm>
          <a:prstGeom prst="rect">
            <a:avLst/>
          </a:prstGeom>
          <a:ln w="0">
            <a:noFill/>
          </a:ln>
        </p:spPr>
      </p:pic>
      <p:sp>
        <p:nvSpPr>
          <p:cNvPr id="1629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Операции отнош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457200" y="1600200"/>
          <a:ext cx="3657600" cy="5137200"/>
        </p:xfrm>
        <a:graphic>
          <a:graphicData uri="http://schemas.openxmlformats.org/drawingml/2006/table">
            <a:tbl>
              <a:tblPr/>
              <a:tblGrid>
                <a:gridCol w="792000"/>
                <a:gridCol w="2865600"/>
              </a:tblGrid>
              <a:tr h="58428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&lt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ьш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416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ьше или равн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&gt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416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е или равн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400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=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вн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24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~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равн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0720">
                <a:tc gridSpan="2"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оритет ниже, чем у арифметических операц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7" name="Picture 29" descr=""/>
          <p:cNvPicPr/>
          <p:nvPr/>
        </p:nvPicPr>
        <p:blipFill>
          <a:blip r:embed="rId1"/>
          <a:stretch/>
        </p:blipFill>
        <p:spPr>
          <a:xfrm>
            <a:off x="4648320" y="2492280"/>
            <a:ext cx="4038480" cy="2521080"/>
          </a:xfrm>
          <a:prstGeom prst="rect">
            <a:avLst/>
          </a:prstGeom>
          <a:ln w="0">
            <a:noFill/>
          </a:ln>
        </p:spPr>
      </p:pic>
      <p:sp>
        <p:nvSpPr>
          <p:cNvPr id="498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B65B-5CEC-471D-B6AC-9DCA2015D4E7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37D6-90B8-461E-AB71-0696053FD9D5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860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Экстремумы 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635" name="Picture 8" descr=""/>
          <p:cNvPicPr/>
          <p:nvPr/>
        </p:nvPicPr>
        <p:blipFill>
          <a:blip r:embed="rId1"/>
          <a:stretch/>
        </p:blipFill>
        <p:spPr>
          <a:xfrm>
            <a:off x="1476360" y="1266840"/>
            <a:ext cx="6191280" cy="5191200"/>
          </a:xfrm>
          <a:prstGeom prst="rect">
            <a:avLst/>
          </a:prstGeom>
          <a:ln w="0">
            <a:noFill/>
          </a:ln>
        </p:spPr>
      </p:pic>
      <p:sp>
        <p:nvSpPr>
          <p:cNvPr id="1636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ADBD-40E1-4FE8-8B19-D48A7B19C0FC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Построение экстремумо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642" name="Group 12"/>
          <p:cNvGrpSpPr/>
          <p:nvPr/>
        </p:nvGrpSpPr>
        <p:grpSpPr>
          <a:xfrm>
            <a:off x="1619280" y="1019160"/>
            <a:ext cx="5508720" cy="5505480"/>
            <a:chOff x="1619280" y="1019160"/>
            <a:chExt cx="5508720" cy="5505480"/>
          </a:xfrm>
        </p:grpSpPr>
        <p:pic>
          <p:nvPicPr>
            <p:cNvPr id="1643" name="Picture 8" descr=""/>
            <p:cNvPicPr/>
            <p:nvPr/>
          </p:nvPicPr>
          <p:blipFill>
            <a:blip r:embed="rId1"/>
            <a:stretch/>
          </p:blipFill>
          <p:spPr>
            <a:xfrm>
              <a:off x="1619280" y="1019160"/>
              <a:ext cx="5508720" cy="168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4" name="Picture 10" descr=""/>
            <p:cNvPicPr/>
            <p:nvPr/>
          </p:nvPicPr>
          <p:blipFill>
            <a:blip r:embed="rId2"/>
            <a:stretch/>
          </p:blipFill>
          <p:spPr>
            <a:xfrm>
              <a:off x="2340000" y="2748240"/>
              <a:ext cx="4464000" cy="377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5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813B-D635-40AC-8FF2-26B7BA855F23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Операции над полиномам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лизуются при помощи фун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col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exp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ho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AB0D-C599-4DA1-B5F8-539FC379E96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50752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coll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числяет коэффициенты при степенях независимой переме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умолчани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о явно задать имя независимой переменной в ви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collect (f, VarN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8" name="Picture 4" descr=""/>
          <p:cNvPicPr/>
          <p:nvPr/>
        </p:nvPicPr>
        <p:blipFill>
          <a:blip r:embed="rId1"/>
          <a:stretch/>
        </p:blipFill>
        <p:spPr>
          <a:xfrm>
            <a:off x="1701720" y="3645000"/>
            <a:ext cx="6112080" cy="2376360"/>
          </a:xfrm>
          <a:prstGeom prst="rect">
            <a:avLst/>
          </a:prstGeom>
          <a:ln w="0">
            <a:noFill/>
          </a:ln>
        </p:spPr>
      </p:pic>
      <p:sp>
        <p:nvSpPr>
          <p:cNvPr id="1659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EA1C-44C0-417A-BAD6-E169CD2CCA8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457200" y="934920"/>
            <a:ext cx="85075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exp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ставляет полином суммой степеней без приведения подоб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5" name="Picture 6" descr=""/>
          <p:cNvPicPr/>
          <p:nvPr/>
        </p:nvPicPr>
        <p:blipFill>
          <a:blip r:embed="rId1"/>
          <a:stretch/>
        </p:blipFill>
        <p:spPr>
          <a:xfrm>
            <a:off x="1187280" y="2190600"/>
            <a:ext cx="6975720" cy="3542040"/>
          </a:xfrm>
          <a:prstGeom prst="rect">
            <a:avLst/>
          </a:prstGeom>
          <a:ln w="0">
            <a:noFill/>
          </a:ln>
        </p:spPr>
      </p:pic>
      <p:sp>
        <p:nvSpPr>
          <p:cNvPr id="1666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085C-AF75-40D9-B7A6-273D0509384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/>
          </p:nvPr>
        </p:nvSpPr>
        <p:spPr>
          <a:xfrm>
            <a:off x="457200" y="1096920"/>
            <a:ext cx="8507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2600" indent="-34056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factor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агает полином на множители, если эти множители имеют рациональные коэффициен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2" name="Picture 6" descr=""/>
          <p:cNvPicPr/>
          <p:nvPr/>
        </p:nvPicPr>
        <p:blipFill>
          <a:blip r:embed="rId1"/>
          <a:stretch/>
        </p:blipFill>
        <p:spPr>
          <a:xfrm>
            <a:off x="1546200" y="2852640"/>
            <a:ext cx="6485040" cy="2448000"/>
          </a:xfrm>
          <a:prstGeom prst="rect">
            <a:avLst/>
          </a:prstGeom>
          <a:ln w="0">
            <a:noFill/>
          </a:ln>
        </p:spPr>
      </p:pic>
      <p:sp>
        <p:nvSpPr>
          <p:cNvPr id="1673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C5A-6F74-43A3-99FC-21B0BE1525BD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075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же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ит каноническое разложение чис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9" name="Picture 6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373960" cy="3889080"/>
          </a:xfrm>
          <a:prstGeom prst="rect">
            <a:avLst/>
          </a:prstGeom>
          <a:ln w="0">
            <a:noFill/>
          </a:ln>
        </p:spPr>
      </p:pic>
      <p:sp>
        <p:nvSpPr>
          <p:cNvPr id="1680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Номер слайда 6"/>
          <p:cNvSpPr/>
          <p:nvPr/>
        </p:nvSpPr>
        <p:spPr>
          <a:xfrm>
            <a:off x="68310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F19C-159E-4F60-8149-D695E8A8562B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507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hor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ставляет полином в схеме Горне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6" name="Picture 6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7525080" cy="2016000"/>
          </a:xfrm>
          <a:prstGeom prst="rect">
            <a:avLst/>
          </a:prstGeom>
          <a:ln w="0">
            <a:noFill/>
          </a:ln>
        </p:spPr>
      </p:pic>
      <p:sp>
        <p:nvSpPr>
          <p:cNvPr id="1687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2FE6-0C16-47E9-BF0D-1AC155BEB4A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Упрощение выражен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569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simpl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лизует мощный алгоритм упрощения с использованием тригонометрических, степенных, логарифмических, экспоненциальных функций, а также спецфункций (Бесселя, гипергеометрической, интеграла ошибок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ытается получить выражение, которое представляется меньшим числом символов, чем исходное, последовательно применяя все функции упрощ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olic Math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2F19-AE0C-4191-BBFD-35D6E608CE15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Simplif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700" name="Picture 4" descr=""/>
          <p:cNvPicPr/>
          <p:nvPr/>
        </p:nvPicPr>
        <p:blipFill>
          <a:blip r:embed="rId1"/>
          <a:stretch/>
        </p:blipFill>
        <p:spPr>
          <a:xfrm>
            <a:off x="1031760" y="1341360"/>
            <a:ext cx="7286760" cy="4608720"/>
          </a:xfrm>
          <a:prstGeom prst="rect">
            <a:avLst/>
          </a:prstGeom>
          <a:ln w="0">
            <a:noFill/>
          </a:ln>
        </p:spPr>
      </p:pic>
      <p:sp>
        <p:nvSpPr>
          <p:cNvPr id="1701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Логические опера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7200" y="1600200"/>
          <a:ext cx="3657600" cy="4295880"/>
        </p:xfrm>
        <a:graphic>
          <a:graphicData uri="http://schemas.openxmlformats.org/drawingml/2006/table">
            <a:tbl>
              <a:tblPr/>
              <a:tblGrid>
                <a:gridCol w="792000"/>
                <a:gridCol w="2865600"/>
              </a:tblGrid>
              <a:tr h="58428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|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л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0720">
                <a:tc gridSpan="2"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– ложь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fals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ина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tru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gridSpan="2"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оритет ниже, чем у арифметических операций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 операций отнош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5" name="Picture 41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5111640" cy="1873440"/>
          </a:xfrm>
          <a:prstGeom prst="rect">
            <a:avLst/>
          </a:prstGeom>
          <a:ln w="0">
            <a:noFill/>
          </a:ln>
        </p:spPr>
      </p:pic>
      <p:sp>
        <p:nvSpPr>
          <p:cNvPr id="506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18F6-8DCE-4271-8304-42D28E579C1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5676-A19D-4070-92A9-7D96573E4E0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Si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707" name="Picture 5" descr=""/>
          <p:cNvPicPr/>
          <p:nvPr/>
        </p:nvPicPr>
        <p:blipFill>
          <a:blip r:embed="rId1"/>
          <a:stretch/>
        </p:blipFill>
        <p:spPr>
          <a:xfrm>
            <a:off x="361800" y="1684440"/>
            <a:ext cx="8569440" cy="3984480"/>
          </a:xfrm>
          <a:prstGeom prst="rect">
            <a:avLst/>
          </a:prstGeom>
          <a:ln w="0">
            <a:noFill/>
          </a:ln>
        </p:spPr>
      </p:pic>
      <p:sp>
        <p:nvSpPr>
          <p:cNvPr id="1708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0425-8A00-48DB-92B6-1B0005B0DF47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Simplify </a:t>
            </a: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против </a:t>
            </a: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Si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огда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si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ёт более удачное решение, ч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simplif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5" name="Picture 6" descr=""/>
          <p:cNvPicPr/>
          <p:nvPr/>
        </p:nvPicPr>
        <p:blipFill>
          <a:blip r:embed="rId1"/>
          <a:stretch/>
        </p:blipFill>
        <p:spPr>
          <a:xfrm>
            <a:off x="746280" y="3141720"/>
            <a:ext cx="7859520" cy="2087640"/>
          </a:xfrm>
          <a:prstGeom prst="rect">
            <a:avLst/>
          </a:prstGeom>
          <a:ln w="0">
            <a:noFill/>
          </a:ln>
        </p:spPr>
      </p:pic>
      <p:sp>
        <p:nvSpPr>
          <p:cNvPr id="1716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Номер слайда 6"/>
          <p:cNvSpPr/>
          <p:nvPr/>
        </p:nvSpPr>
        <p:spPr>
          <a:xfrm>
            <a:off x="68040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9122-20A9-437D-B050-9FBD692D78F7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Si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simpl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эффективна при работе с тригонометрическими выражен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3" name="Picture 6" descr=""/>
          <p:cNvPicPr/>
          <p:nvPr/>
        </p:nvPicPr>
        <p:blipFill>
          <a:blip r:embed="rId1"/>
          <a:stretch/>
        </p:blipFill>
        <p:spPr>
          <a:xfrm>
            <a:off x="1289160" y="2708280"/>
            <a:ext cx="6378480" cy="3621240"/>
          </a:xfrm>
          <a:prstGeom prst="rect">
            <a:avLst/>
          </a:prstGeom>
          <a:ln w="0">
            <a:noFill/>
          </a:ln>
        </p:spPr>
      </p:pic>
      <p:sp>
        <p:nvSpPr>
          <p:cNvPr id="1724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073C-B127-42CA-96CA-71CFC1FBB202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Подстанов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sub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ставляет одно символьное выражение в друг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ий форма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sub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&lt;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куда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, &lt;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вместо чего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, &lt;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1D3C-B980-4F99-BC30-BB4810499F8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Пример подстановк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737" name="Picture 6" descr=""/>
          <p:cNvPicPr/>
          <p:nvPr/>
        </p:nvPicPr>
        <p:blipFill>
          <a:blip r:embed="rId1"/>
          <a:stretch/>
        </p:blipFill>
        <p:spPr>
          <a:xfrm>
            <a:off x="755640" y="1603440"/>
            <a:ext cx="7848720" cy="4262400"/>
          </a:xfrm>
          <a:prstGeom prst="rect">
            <a:avLst/>
          </a:prstGeom>
          <a:ln w="0">
            <a:noFill/>
          </a:ln>
        </p:spPr>
      </p:pic>
      <p:sp>
        <p:nvSpPr>
          <p:cNvPr id="1738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D0A-3B0D-4137-BDED-8CC3FE86C747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дстановка значения в функцию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становка вместо переменной её числового значения приводит к вычислению символьной функции от значения аргум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5" name="Picture 6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5186520" cy="3647880"/>
          </a:xfrm>
          <a:prstGeom prst="rect">
            <a:avLst/>
          </a:prstGeom>
          <a:ln w="0">
            <a:noFill/>
          </a:ln>
        </p:spPr>
      </p:pic>
      <p:sp>
        <p:nvSpPr>
          <p:cNvPr id="1746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AD85-DC8B-4A04-9D23-5481829F4033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Точная арифмети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чные вычисления реализуются функцией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vp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Variable-Precision Arithme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ат выз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vp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&lt;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выражение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, &lt;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значащих цифр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A929-3675-4AB8-B581-523AED63D05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8" name="Picture 5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3840" cy="5112000"/>
          </a:xfrm>
          <a:prstGeom prst="rect">
            <a:avLst/>
          </a:prstGeom>
          <a:ln w="0">
            <a:noFill/>
          </a:ln>
        </p:spPr>
      </p:pic>
      <p:sp>
        <p:nvSpPr>
          <p:cNvPr id="1759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5807-8834-4ADE-9E56-A569E94FB08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Решение уравнений и систем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311120"/>
            <a:ext cx="82915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2600" indent="-34056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яет команда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so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4-го порядка включительно решаются то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 выводится в степенях рациональных чис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внения высших порядков и трансцендентные, как правило, точно не решаю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4264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м случае выводится приближённый резуль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лью сокращения записи при выводе могут использоваться подстан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3868-B93E-4A24-A892-ADF77F789676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1" name="Picture 5" descr=""/>
          <p:cNvPicPr/>
          <p:nvPr/>
        </p:nvPicPr>
        <p:blipFill>
          <a:blip r:embed="rId1"/>
          <a:stretch/>
        </p:blipFill>
        <p:spPr>
          <a:xfrm>
            <a:off x="1042920" y="563400"/>
            <a:ext cx="6985080" cy="5865840"/>
          </a:xfrm>
          <a:prstGeom prst="rect">
            <a:avLst/>
          </a:prstGeom>
          <a:ln w="0">
            <a:noFill/>
          </a:ln>
        </p:spPr>
      </p:pic>
      <p:sp>
        <p:nvSpPr>
          <p:cNvPr id="1772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Franklin Gothic Book"/>
              </a:rPr>
              <a:t>Командная стро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61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ейший способ взаимодействия 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lab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в командной строке (в режиме калькулято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ока начинается с приглашения: символа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мещение по стеку ранее введённых команд – клавиш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↑ и 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ля удобства размещения данных в КС можно разбивать вводимое выражение знаком «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чистить командное окно можно комадной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cl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6012000" y="1413000"/>
            <a:ext cx="3009600" cy="1224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5830920" y="3284640"/>
            <a:ext cx="3205080" cy="2448000"/>
          </a:xfrm>
          <a:prstGeom prst="rect">
            <a:avLst/>
          </a:prstGeom>
          <a:ln w="0">
            <a:noFill/>
          </a:ln>
        </p:spPr>
      </p:pic>
      <p:sp>
        <p:nvSpPr>
          <p:cNvPr id="515" name="Номер слайда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BE39-311C-4218-AE75-9072D554812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6071-1EFF-44D8-BD2A-6564CB4EA03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Arial"/>
              </a:rPr>
              <a:t>Решение систем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же выполняет команда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so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ходные арг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вые части урав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менные, по которым нужно разрешить сист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 = solve(f1, f2, x1, x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ходной аргу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(запись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лями (в данном случае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ящими символьное представление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C67F-5EA8-491E-B607-5D7B3DE08BC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4" name="Group 9"/>
          <p:cNvGrpSpPr/>
          <p:nvPr/>
        </p:nvGrpSpPr>
        <p:grpSpPr>
          <a:xfrm>
            <a:off x="755640" y="549360"/>
            <a:ext cx="7848360" cy="5689080"/>
            <a:chOff x="755640" y="549360"/>
            <a:chExt cx="7848360" cy="5689080"/>
          </a:xfrm>
        </p:grpSpPr>
        <p:pic>
          <p:nvPicPr>
            <p:cNvPr id="1785" name="Picture 7" descr=""/>
            <p:cNvPicPr/>
            <p:nvPr/>
          </p:nvPicPr>
          <p:blipFill>
            <a:blip r:embed="rId1"/>
            <a:stretch/>
          </p:blipFill>
          <p:spPr>
            <a:xfrm>
              <a:off x="755640" y="658800"/>
              <a:ext cx="7495200" cy="55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6" name="Picture 5" descr=""/>
            <p:cNvPicPr/>
            <p:nvPr/>
          </p:nvPicPr>
          <p:blipFill>
            <a:blip r:embed="rId2"/>
            <a:stretch/>
          </p:blipFill>
          <p:spPr>
            <a:xfrm>
              <a:off x="6819480" y="549360"/>
              <a:ext cx="1784520" cy="86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7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EDEB-4171-43F4-AD1B-FA7130A62F3B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дифференциальных уравнени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яет команда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dso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неизвестная функция обозначена символьной переменно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о ее производные следует обозначать к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[n]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где в скобках указан порядок производ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B1D3-F2D2-4636-AA86-F3A451F4666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68000" y="1211040"/>
            <a:ext cx="8280360" cy="38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Franklin Gothic Book"/>
              </a:rPr>
              <a:t>MATLAB </a:t>
            </a:r>
            <a:r>
              <a:rPr b="0" lang="ru-RU" sz="5400" spc="-1" strike="noStrike">
                <a:solidFill>
                  <a:srgbClr val="ffff00"/>
                </a:solidFill>
                <a:latin typeface="Franklin Gothic Book"/>
              </a:rPr>
              <a:t>В ЗАДАЧАХ ТЕОРИИ АВТОМАТИЧЕСКОГО УПРАВЛЕНИЯ (ТАУ)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0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46A0-F0E1-498B-9E86-1B9A1D79B51B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3940-0909-4B70-BD3B-6CB42C694A3C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CAF9-E285-4947-9C7A-58A6A36F0107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D653-A3B9-4C7D-97CC-9DFF50500C1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Номер слайда 6"/>
          <p:cNvSpPr/>
          <p:nvPr/>
        </p:nvSpPr>
        <p:spPr>
          <a:xfrm>
            <a:off x="6759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78EE-5230-4A55-9C30-AC6A7BE0FAD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AutoShape 5"/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5C80-9BB9-4194-B6EA-18951624B78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Franklin Gothic Book"/>
              </a:rPr>
              <a:t>Содерж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424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6c7aa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6c7aa"/>
                </a:solidFill>
                <a:uFillTx/>
                <a:latin typeface="Arial"/>
                <a:hlinkClick r:id="rId2" action="ppaction://hlinksldjump"/>
              </a:rPr>
              <a:t>Основы </a:t>
            </a:r>
            <a:r>
              <a:rPr b="0" lang="en-US" sz="3000" spc="-1" strike="noStrike" u="sng">
                <a:solidFill>
                  <a:srgbClr val="56c7aa"/>
                </a:solidFill>
                <a:uFillTx/>
                <a:latin typeface="Arial"/>
                <a:hlinkClick r:id="rId3" action="ppaction://hlinksldjump"/>
              </a:rPr>
              <a:t>Matla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6c7aa"/>
                </a:solidFill>
                <a:uFillTx/>
                <a:latin typeface="Arial"/>
                <a:hlinkClick r:id="rId4" action="ppaction://hlinksldjump"/>
              </a:rPr>
              <a:t>Вычисления в </a:t>
            </a:r>
            <a:r>
              <a:rPr b="0" lang="en-US" sz="3000" spc="-1" strike="noStrike" u="sng">
                <a:solidFill>
                  <a:srgbClr val="56c7aa"/>
                </a:solidFill>
                <a:uFillTx/>
                <a:latin typeface="Arial"/>
                <a:hlinkClick r:id="rId5" action="ppaction://hlinksldjump"/>
              </a:rPr>
              <a:t>Matla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6c7aa"/>
                </a:solidFill>
                <a:uFillTx/>
                <a:latin typeface="Arial"/>
                <a:hlinkClick r:id="rId6" action="ppaction://hlinksldjump"/>
              </a:rPr>
              <a:t>Функции для работы с массива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6c7aa"/>
                </a:solidFill>
                <a:uFillTx/>
                <a:latin typeface="Arial"/>
                <a:hlinkClick r:id="rId7" action="ppaction://hlinksldjump"/>
              </a:rPr>
              <a:t>Графические возможности </a:t>
            </a:r>
            <a:r>
              <a:rPr b="0" lang="en-US" sz="3000" spc="-1" strike="noStrike" u="sng">
                <a:solidFill>
                  <a:srgbClr val="56c7aa"/>
                </a:solidFill>
                <a:uFillTx/>
                <a:latin typeface="Arial"/>
                <a:hlinkClick r:id="rId8" action="ppaction://hlinksldjump"/>
              </a:rPr>
              <a:t>Matla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6c7aa"/>
                </a:solidFill>
                <a:uFillTx/>
                <a:latin typeface="Arial"/>
                <a:hlinkClick r:id="rId9" action="ppaction://hlinksldjump"/>
              </a:rPr>
              <a:t>Программирование в </a:t>
            </a:r>
            <a:r>
              <a:rPr b="0" lang="en-US" sz="3000" spc="-1" strike="noStrike" u="sng">
                <a:solidFill>
                  <a:srgbClr val="56c7aa"/>
                </a:solidFill>
                <a:uFillTx/>
                <a:latin typeface="Arial"/>
                <a:hlinkClick r:id="rId10" action="ppaction://hlinksldjump"/>
              </a:rPr>
              <a:t>Matla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6c7aa"/>
                </a:solidFill>
                <a:uFillTx/>
                <a:latin typeface="Arial"/>
                <a:hlinkClick r:id="rId11" action="ppaction://hlinksldjump"/>
              </a:rPr>
              <a:t>Аналитические вычисления в </a:t>
            </a:r>
            <a:r>
              <a:rPr b="0" lang="en-US" sz="3000" spc="-1" strike="noStrike" u="sng">
                <a:solidFill>
                  <a:srgbClr val="56c7aa"/>
                </a:solidFill>
                <a:uFillTx/>
                <a:latin typeface="Arial"/>
                <a:hlinkClick r:id="rId12" action="ppaction://hlinksldjump"/>
              </a:rPr>
              <a:t>Matla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1063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КС упрощается благодаря окн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nd History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ню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kt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хранится сессионная запись всех введённых кома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х можно скопировать, выполнить и т. п. (см. контекстное меню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3024360" cy="2975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3024360" cy="2903760"/>
          </a:xfrm>
          <a:prstGeom prst="rect">
            <a:avLst/>
          </a:prstGeom>
          <a:ln w="0">
            <a:noFill/>
          </a:ln>
        </p:spPr>
      </p:pic>
      <p:sp>
        <p:nvSpPr>
          <p:cNvPr id="523" name="Номер слайда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555E-DFD6-4B80-8B7B-2AD22411CEE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Franklin Gothic Book"/>
              </a:rPr>
              <a:t>Рабочее пространство </a:t>
            </a: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(Workspace)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переменные хранятся в Р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ой это отнимает много ме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мотреть список существующих в РП переменных можно командой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1692360" y="3789360"/>
            <a:ext cx="5686200" cy="2708280"/>
          </a:xfrm>
          <a:prstGeom prst="rect">
            <a:avLst/>
          </a:prstGeom>
          <a:ln w="0">
            <a:noFill/>
          </a:ln>
        </p:spPr>
      </p:pic>
      <p:sp>
        <p:nvSpPr>
          <p:cNvPr id="531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B2CB-096B-47D6-B9E7-B657B329D45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0755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подробную информацию о переменных РП можно вывести командой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o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6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6791400" cy="3168720"/>
          </a:xfrm>
          <a:prstGeom prst="rect">
            <a:avLst/>
          </a:prstGeom>
          <a:ln w="0">
            <a:noFill/>
          </a:ln>
        </p:spPr>
      </p:pic>
      <p:sp>
        <p:nvSpPr>
          <p:cNvPr id="538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7FEB-38C5-4DAE-A098-7A0618E6C75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6840" y="1063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закрытия сеанса работы MATLABа все переменные, вычисленные в течение сеанса, теряются. Однако их можно сохранить для последующего использования в иных сеансах, сохранив содержимое РП в файле на ди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андой меню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 \ Save Workspace A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анд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lab: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737B-3B81-4344-8EB8-90EABB66662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Команда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sav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яет все переменные в файл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tlab.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яет все переменные в фай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le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y 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яет переменны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, y, 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фай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lename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можно по маске: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y z -ASC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яет переменны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, y, 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фай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le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екстовом в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save('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ilename’, 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',‘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','-ASCII'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ная форма вызова команд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раметры – в виде строк (в одинарных апострофа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робнее про эту и любую другую команд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hel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имя команды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CE53-9ED1-4307-AFDE-D96324F0EC4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Команда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loa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т для загрузки ранее сохранённых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жает все переменные из файла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tlab.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жает все переменные из фай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le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y 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жает переменны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, y, 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фай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l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-ASC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y 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жает  переменны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, y, 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текстового фай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le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ad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ilename’, 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',‘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','-ASCII'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ная форма вызова коман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2FE5-77F9-41FF-85E0-144DA6F4992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Команда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clea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ужит для удаления переменных из Р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clea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даляет все переменны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clea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даляет всё, включая классы, функции, скомпилированные файлы и п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clea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x y z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даляет переменные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x, 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46B5-41CA-4B4F-AE7A-C9A358A56E4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Рабочий каталог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файлы (данные, функции и пр.), созданные пользователем сохраняются в текущем каталог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urrent Directo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ить текущий каталог 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андой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d &lt;</a:t>
            </a: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путь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роке ввод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Directory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панели инструмент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к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Directory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7" descr=""/>
          <p:cNvPicPr/>
          <p:nvPr/>
        </p:nvPicPr>
        <p:blipFill>
          <a:blip r:embed="rId1"/>
          <a:stretch/>
        </p:blipFill>
        <p:spPr>
          <a:xfrm>
            <a:off x="1476360" y="3500280"/>
            <a:ext cx="5904000" cy="3183120"/>
          </a:xfrm>
          <a:prstGeom prst="rect">
            <a:avLst/>
          </a:prstGeom>
          <a:ln w="0">
            <a:noFill/>
          </a:ln>
        </p:spPr>
      </p:pic>
      <p:sp>
        <p:nvSpPr>
          <p:cNvPr id="573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21FE-6CE8-4E7C-BE4E-C0D5DBCFAB8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Сохранение рабочей сесс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i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яе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г текущей сессии (весь текстовый ввод и вывод) в фай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умолчанию – в файл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екущем катал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iary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iary(‘filename’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яют сессию в указанном фай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iary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off /  diary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енно, приостанавливают и продолжают ведение 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iar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ереключается между режимам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/off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лог уже ведё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8B66-18CD-4933-B577-9BBA6905D067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04520" y="1211400"/>
            <a:ext cx="7467480" cy="300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Franklin Gothic Book"/>
              </a:rPr>
              <a:t>ВЫЧИСЛЕНИЯ В </a:t>
            </a:r>
            <a:r>
              <a:rPr b="0" lang="en-US" sz="5400" spc="-1" strike="noStrike">
                <a:solidFill>
                  <a:srgbClr val="ffff00"/>
                </a:solidFill>
                <a:latin typeface="Franklin Gothic Book"/>
              </a:rPr>
              <a:t>MATLAB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888A-61B1-4B51-AB1E-6221F6F9E5A7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84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Matlab</a:t>
            </a: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 (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MATrix LABoratory</a:t>
            </a: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– </a:t>
            </a: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это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8000" y="2242800"/>
            <a:ext cx="84358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тематические вычис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ние алгоритм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нализ, обработка и визуализация дан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учная и инженерная графи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работка приложений с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громное количество прикладных пакет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E896-3DFC-44C6-806A-6419DA385D9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Заголовок 1"/>
          <p:cNvSpPr/>
          <p:nvPr/>
        </p:nvSpPr>
        <p:spPr>
          <a:xfrm>
            <a:off x="684360" y="-9360"/>
            <a:ext cx="73231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Franklin Gothic Book"/>
              </a:rPr>
              <a:t>Введ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3AC0-2E9C-499A-BADB-0DF5571DFDD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Элементарные функции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 Тригонометрические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2771640" y="1628640"/>
            <a:ext cx="216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n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n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in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o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an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o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5292720" y="1557360"/>
            <a:ext cx="238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t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71FA-7B5A-4DC3-9E92-61C545CA701B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Элементарные функции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 Экспоненциальные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g – l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g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g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q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throot(x, 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F5B8-2D2B-4413-916F-588CFBAB695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Элементарные функции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Округление и остатк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ругление к нул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r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ругление к минус бесконе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il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ругление к плюс бесконе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ругление к ближайшему цел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(x,y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ток от делен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учёта знака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- n*y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 = floor(x/y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(x,y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ток от делен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учётом знака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- n*y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 = fix(x/y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4BC7-0BF9-4535-BA25-6BA3E0FD170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Элементарные функции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Комплексные числа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(z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модуль комплексного числ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(z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з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 радиана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(z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йствительная час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(z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имая час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j(z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но сопряжённое число дл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(a,b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руирует комплексное числ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+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eal(z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вращает истину, есл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йствитель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51BD-23F2-4162-AD02-916785CEAAE3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Элементарные 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смотреть полный список элементарных функций можно команд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urier New"/>
              </a:rPr>
              <a:t>help elfu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608C-C732-46B9-8641-DF39CAADA836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Констан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оне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ус бесконе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umber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числовое зна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009960" cy="5111640"/>
          </a:xfrm>
          <a:prstGeom prst="rect">
            <a:avLst/>
          </a:prstGeom>
          <a:ln w="0">
            <a:noFill/>
          </a:ln>
        </p:spPr>
      </p:pic>
      <p:sp>
        <p:nvSpPr>
          <p:cNvPr id="632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B01A-4819-4213-B5E1-400912AF642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Одномерные массив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ание масси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[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[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пазон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-3: 2  (b = -3 -2 -1 0 1 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-3:2:5   (b = -3 -1 1 3 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уп к элемент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будет равно 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элемен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(3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 элементов в массив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gth(a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будет равн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умерация элементов начинается с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бавление элементов в масси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(4) = 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[a 5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катенация массив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аление массива (превращение в пустой масси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[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1007-B834-4E9F-9223-388FCFFFF59B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Двумерные массив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е масси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[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; 3 4; 5 6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к элемент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6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311280" cy="27370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4500720" y="2852640"/>
            <a:ext cx="4392360" cy="241452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33AD-BB41-4155-9039-E8BA4E1CA98D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Векторы-столбцы и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векторы-строк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ая строка и столбец матрицы – это ве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кторы, расположенные вдоль строк – векторы-строки (размер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кторы, расположенные вдоль столбцов – векторы-столбц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ме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x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е вектора-столбц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векторам любого типа применима функц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Picture 4" descr=""/>
          <p:cNvPicPr/>
          <p:nvPr/>
        </p:nvPicPr>
        <p:blipFill>
          <a:blip r:embed="rId1"/>
          <a:stretch/>
        </p:blipFill>
        <p:spPr>
          <a:xfrm>
            <a:off x="6227640" y="2349360"/>
            <a:ext cx="2109960" cy="3961080"/>
          </a:xfrm>
          <a:prstGeom prst="rect">
            <a:avLst/>
          </a:prstGeom>
          <a:ln w="0">
            <a:noFill/>
          </a:ln>
        </p:spPr>
      </p:pic>
      <p:sp>
        <p:nvSpPr>
          <p:cNvPr id="658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E585-AB04-4D37-AE52-33D6DB0C735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Franklin Gothic Book"/>
              </a:rPr>
              <a:t>Размерность и размер матриц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мерность массива определяется функцие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dims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мер массива – функцие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6" descr=""/>
          <p:cNvPicPr/>
          <p:nvPr/>
        </p:nvPicPr>
        <p:blipFill>
          <a:blip r:embed="rId1"/>
          <a:stretch/>
        </p:blipFill>
        <p:spPr>
          <a:xfrm>
            <a:off x="1763640" y="2997360"/>
            <a:ext cx="2576520" cy="31683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2101680" cy="381636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00"/>
                </a:solidFill>
                <a:latin typeface="Franklin Gothic Book"/>
              </a:rPr>
              <a:t>Пакеты, встроенные в </a:t>
            </a:r>
            <a:r>
              <a:rPr b="0" lang="en-US" sz="4100" spc="-1" strike="noStrike">
                <a:solidFill>
                  <a:srgbClr val="ffff00"/>
                </a:solidFill>
                <a:latin typeface="Franklin Gothic Book"/>
              </a:rPr>
              <a:t>Matlab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lab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oinformatics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ommunications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ontrol System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Database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Distributed Computing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nancial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uzzy Logic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Algorithm and Direct Search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mage Processing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Neural Networks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Partial Differential Equation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gnal Processing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ne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tatistics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ymbolic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irtual Reality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avelet Tool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Simu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Aerospace Block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ommunications Block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ideo and Image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lab Builder for 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lab Compi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грация 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A5DB-4D94-4BC2-BF32-E06577530E4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616F-B54B-4533-844B-48FA325AAEE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Конкатенац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две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4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449800" cy="3139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3"/>
          <p:cNvSpPr/>
          <p:nvPr/>
        </p:nvSpPr>
        <p:spPr>
          <a:xfrm>
            <a:off x="3851280" y="1052640"/>
            <a:ext cx="51134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едём склейку «в столбик», а затем «в строку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5" descr=""/>
          <p:cNvPicPr/>
          <p:nvPr/>
        </p:nvPicPr>
        <p:blipFill>
          <a:blip r:embed="rId2"/>
          <a:stretch/>
        </p:blipFill>
        <p:spPr>
          <a:xfrm>
            <a:off x="5940360" y="1989000"/>
            <a:ext cx="2879640" cy="322740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3"/>
          <p:cNvSpPr/>
          <p:nvPr/>
        </p:nvSpPr>
        <p:spPr>
          <a:xfrm>
            <a:off x="439560" y="530064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68640" indent="-33660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несовпадении размерностей получаем сообщение об ошиб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Picture 6" descr=""/>
          <p:cNvPicPr/>
          <p:nvPr/>
        </p:nvPicPr>
        <p:blipFill>
          <a:blip r:embed="rId3"/>
          <a:stretch/>
        </p:blipFill>
        <p:spPr>
          <a:xfrm>
            <a:off x="4818240" y="5803920"/>
            <a:ext cx="3570120" cy="95076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5">
            <a:hlinkClick r:id="rId4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212E-D445-4B2E-BD7F-967D982FEED5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Диапазо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о использовать как для задания значений векторов, так и для задания диапазонов индекс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другие прим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7" name="Object 4"/>
          <p:cNvGraphicFramePr/>
          <p:nvPr/>
        </p:nvGraphicFramePr>
        <p:xfrm>
          <a:off x="5292720" y="1700280"/>
          <a:ext cx="31957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3195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6233-1118-42EF-89B5-AB698EF7E36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7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3208320" cy="52563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9" descr=""/>
          <p:cNvPicPr/>
          <p:nvPr/>
        </p:nvPicPr>
        <p:blipFill>
          <a:blip r:embed="rId2"/>
          <a:stretch/>
        </p:blipFill>
        <p:spPr>
          <a:xfrm>
            <a:off x="5508720" y="765000"/>
            <a:ext cx="2376360" cy="525636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DC8D-7DCD-4E95-9302-DF9310E65AD7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57200" y="1023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обращения к  последнему элементу любой размерности можно использовать служебное слово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4" descr=""/>
          <p:cNvPicPr/>
          <p:nvPr/>
        </p:nvPicPr>
        <p:blipFill>
          <a:blip r:embed="rId1"/>
          <a:stretch/>
        </p:blipFill>
        <p:spPr>
          <a:xfrm>
            <a:off x="4854600" y="907920"/>
            <a:ext cx="3568680" cy="468180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DC65-9F53-4294-A83D-7DCD18BD74A7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Удаление строк и столбцо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709" name="Object 8"/>
          <p:cNvGraphicFramePr/>
          <p:nvPr/>
        </p:nvGraphicFramePr>
        <p:xfrm>
          <a:off x="488880" y="1484280"/>
          <a:ext cx="385128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484280"/>
                    <a:ext cx="38512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10"/>
          <p:cNvGraphicFramePr/>
          <p:nvPr/>
        </p:nvGraphicFramePr>
        <p:xfrm>
          <a:off x="4826160" y="1484280"/>
          <a:ext cx="3735360" cy="48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6160" y="1484280"/>
                    <a:ext cx="37353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AutoShape 5">
            <a:hlinkClick r:id="rId5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5563-E0A5-4BDC-A4C3-D86171CD0A6D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Перестановка элементо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19" name="Picture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319560" cy="30477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795480" cy="4897440"/>
          </a:xfrm>
          <a:prstGeom prst="rect">
            <a:avLst/>
          </a:prstGeom>
          <a:ln w="0">
            <a:noFill/>
          </a:ln>
        </p:spPr>
      </p:pic>
      <p:sp>
        <p:nvSpPr>
          <p:cNvPr id="721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596D-77B5-4B15-821D-FAD9BF00AC6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04520" y="1211400"/>
            <a:ext cx="7467480" cy="300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Franklin Gothic Book"/>
              </a:rPr>
              <a:t>ФУНКЦИИ ДЛЯ РАБОТЫ С МАССИВАМИ В MATLAB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7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ACA8-056E-4094-BB7A-BCD322C9227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Создание матриц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специального вид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боты с матрицами удобно пользоваться следующими функц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n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массива из едини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массива из ну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y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единичной матр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рицы из числе, равномерно распределённых на отрезк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0, 1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and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матрицы из чисел, нормально распределённых с математическим ожиданием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ag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магического квадр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asc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квадрата Паска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гональная матр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A428-7706-4A64-B87C-4D83A2F62DBD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МАТРИЦЫ СПЕЦИАЛЬНОГО ВИД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мотрим основной синтаксис на примере функции создания единичной матрицы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ey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eye(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ние единичной матрицы размера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m, m]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eye(m,</a:t>
            </a: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n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ние единичной матрицы размера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m, n]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«лишние» строки или столбцы дополняются нуля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F185-B708-437E-83AD-8333C3490AF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6" name="Object 4"/>
          <p:cNvGraphicFramePr/>
          <p:nvPr/>
        </p:nvGraphicFramePr>
        <p:xfrm>
          <a:off x="2195640" y="1052640"/>
          <a:ext cx="4897440" cy="47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489744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ОСНОВНЫЕ ЧАСТИ ПАКЕТА </a:t>
            </a: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MATLAB</a:t>
            </a: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4e67c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зы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e67c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e67c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яемая граф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e67c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блиотека математических фун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e67c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раммный интерфей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18B0-75A2-4D70-9CA4-B473446139B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8A23-77DC-486C-846D-D18F76B1D8F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3" name="Group 8"/>
          <p:cNvGrpSpPr/>
          <p:nvPr/>
        </p:nvGrpSpPr>
        <p:grpSpPr>
          <a:xfrm>
            <a:off x="900000" y="836640"/>
            <a:ext cx="6840360" cy="5182920"/>
            <a:chOff x="900000" y="836640"/>
            <a:chExt cx="6840360" cy="5182920"/>
          </a:xfrm>
        </p:grpSpPr>
        <p:pic>
          <p:nvPicPr>
            <p:cNvPr id="754" name="Picture 4" descr=""/>
            <p:cNvPicPr/>
            <p:nvPr/>
          </p:nvPicPr>
          <p:blipFill>
            <a:blip r:embed="rId1"/>
            <a:stretch/>
          </p:blipFill>
          <p:spPr>
            <a:xfrm>
              <a:off x="900000" y="1136880"/>
              <a:ext cx="2863800" cy="44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6" descr=""/>
            <p:cNvPicPr/>
            <p:nvPr/>
          </p:nvPicPr>
          <p:blipFill>
            <a:blip r:embed="rId2"/>
            <a:stretch/>
          </p:blipFill>
          <p:spPr>
            <a:xfrm>
              <a:off x="4250880" y="836640"/>
              <a:ext cx="3489480" cy="51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6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9C2F-544B-46C6-8D24-5C96D6A5C89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4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4968720" cy="4756320"/>
          </a:xfrm>
          <a:prstGeom prst="rect">
            <a:avLst/>
          </a:prstGeom>
          <a:ln w="0">
            <a:noFill/>
          </a:ln>
        </p:spPr>
      </p:pic>
      <p:sp>
        <p:nvSpPr>
          <p:cNvPr id="762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BA42-D115-459E-B49C-338209181BD2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Picture 4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4343400" cy="4753080"/>
          </a:xfrm>
          <a:prstGeom prst="rect">
            <a:avLst/>
          </a:prstGeom>
          <a:ln w="0">
            <a:noFill/>
          </a:ln>
        </p:spPr>
      </p:pic>
      <p:sp>
        <p:nvSpPr>
          <p:cNvPr id="768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7556-ECA8-4711-8125-3814C38DF032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250560" y="9190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ia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с диагональными матриц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которых ненулевые элементы расположены на диагонал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нтаксис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= diag(v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главной диагонали матриц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оложены элементы вектор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= diag(v,k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й диагонали матриц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оложены элементы вектор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 умолчанию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=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v = diag(X,k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лечь из матриц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ую диагональ и сохранить её в вектор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11E4-F953-487F-9DD5-8A7AB728C29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9" name="Object 7"/>
          <p:cNvGraphicFramePr/>
          <p:nvPr/>
        </p:nvGraphicFramePr>
        <p:xfrm>
          <a:off x="714240" y="836640"/>
          <a:ext cx="357372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836640"/>
                    <a:ext cx="35737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1" name="Picture 8" descr=""/>
          <p:cNvPicPr/>
          <p:nvPr/>
        </p:nvPicPr>
        <p:blipFill>
          <a:blip r:embed="rId3"/>
          <a:stretch/>
        </p:blipFill>
        <p:spPr>
          <a:xfrm>
            <a:off x="5148360" y="692280"/>
            <a:ext cx="3073320" cy="5545080"/>
          </a:xfrm>
          <a:prstGeom prst="rect">
            <a:avLst/>
          </a:prstGeom>
          <a:ln w="0">
            <a:noFill/>
          </a:ln>
        </p:spPr>
      </p:pic>
      <p:sp>
        <p:nvSpPr>
          <p:cNvPr id="782" name="AutoShape 5">
            <a:hlinkClick r:id="rId4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7829-AFFF-496F-8D14-B549EE9722D4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Picture 5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985080" cy="470844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199A-06E0-4BCF-A166-F0FC37D01188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ВЫЧИСЛЕНИЯ С ЭЛЕМЕНТАМИ МАССИВОВ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ейшие операции над элементами массив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um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мма эле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od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оизведение эле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umsum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умулятивная сумма эле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umprod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умулятивное произведение эле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x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хождение максимального элеме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хождение минимального элеме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ort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ртировка эле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CD5B-66B1-4035-BF8C-B67925675021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мотрим работу некоторых из этих функций на примере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su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векторов эта функция возвращает сумму элемент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массивов – сумму элементов по каждому из столбц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зультат – вектор-стро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стальные функции работают по этому же принципу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F4A5-A8D1-4177-9C3B-A5455C3DAC1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6" name="Group 13"/>
          <p:cNvGrpSpPr/>
          <p:nvPr/>
        </p:nvGrpSpPr>
        <p:grpSpPr>
          <a:xfrm>
            <a:off x="755640" y="1268280"/>
            <a:ext cx="7272000" cy="4103640"/>
            <a:chOff x="755640" y="1268280"/>
            <a:chExt cx="7272000" cy="4103640"/>
          </a:xfrm>
        </p:grpSpPr>
        <p:pic>
          <p:nvPicPr>
            <p:cNvPr id="807" name="Picture 9" descr=""/>
            <p:cNvPicPr/>
            <p:nvPr/>
          </p:nvPicPr>
          <p:blipFill>
            <a:blip r:embed="rId1"/>
            <a:stretch/>
          </p:blipFill>
          <p:spPr>
            <a:xfrm>
              <a:off x="755640" y="1268280"/>
              <a:ext cx="358308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Picture 11" descr=""/>
            <p:cNvPicPr/>
            <p:nvPr/>
          </p:nvPicPr>
          <p:blipFill>
            <a:blip r:embed="rId2"/>
            <a:stretch/>
          </p:blipFill>
          <p:spPr>
            <a:xfrm>
              <a:off x="4799880" y="1352160"/>
              <a:ext cx="3227760" cy="33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9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D06A-35F8-4CD7-A9A0-72D23B388CB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мулятивная сумма вычисляется так же, только происходит накопление вычисленных значений в элементах масси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5" name="Picture 6" descr=""/>
          <p:cNvPicPr/>
          <p:nvPr/>
        </p:nvPicPr>
        <p:blipFill>
          <a:blip r:embed="rId1"/>
          <a:stretch/>
        </p:blipFill>
        <p:spPr>
          <a:xfrm>
            <a:off x="4859280" y="1081080"/>
            <a:ext cx="3595680" cy="4565520"/>
          </a:xfrm>
          <a:prstGeom prst="rect">
            <a:avLst/>
          </a:prstGeom>
          <a:ln w="0">
            <a:noFill/>
          </a:ln>
        </p:spPr>
      </p:pic>
      <p:sp>
        <p:nvSpPr>
          <p:cNvPr id="816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Язык </a:t>
            </a: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Matlab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- и Паскаль-подобный объектно-ориентирова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ромный набор встроенных фун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ширяем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овате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4648320" y="2496960"/>
            <a:ext cx="4038480" cy="2732400"/>
          </a:xfrm>
          <a:prstGeom prst="rect">
            <a:avLst/>
          </a:prstGeom>
          <a:ln w="0">
            <a:noFill/>
          </a:ln>
        </p:spPr>
      </p:pic>
      <p:sp>
        <p:nvSpPr>
          <p:cNvPr id="416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535F-B7BB-40FD-A880-87BC22B2370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99FD-B380-4BC2-8468-409AA889E3C8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44020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ый и минимальный элементы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2" name="Picture 7" descr=""/>
          <p:cNvPicPr/>
          <p:nvPr/>
        </p:nvPicPr>
        <p:blipFill>
          <a:blip r:embed="rId1"/>
          <a:stretch/>
        </p:blipFill>
        <p:spPr>
          <a:xfrm>
            <a:off x="5005440" y="836640"/>
            <a:ext cx="3371760" cy="496872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35C7-AD03-4BE6-8C76-FC1117B6038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зов функций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max/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двумя выходными параметрами позволяет определить и индекс найденного элемен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4" descr=""/>
          <p:cNvPicPr/>
          <p:nvPr/>
        </p:nvPicPr>
        <p:blipFill>
          <a:blip r:embed="rId1"/>
          <a:stretch/>
        </p:blipFill>
        <p:spPr>
          <a:xfrm>
            <a:off x="4846680" y="1009800"/>
            <a:ext cx="3639960" cy="4464000"/>
          </a:xfrm>
          <a:prstGeom prst="rect">
            <a:avLst/>
          </a:prstGeom>
          <a:ln w="0">
            <a:noFill/>
          </a:ln>
        </p:spPr>
      </p:pic>
      <p:sp>
        <p:nvSpPr>
          <p:cNvPr id="830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D51-A79D-42D3-9033-8FD75EDA3226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457200" y="9504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ит сортировку элементов матрицы по столбц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Picture 4" descr=""/>
          <p:cNvPicPr/>
          <p:nvPr/>
        </p:nvPicPr>
        <p:blipFill>
          <a:blip r:embed="rId1"/>
          <a:stretch/>
        </p:blipFill>
        <p:spPr>
          <a:xfrm>
            <a:off x="5030640" y="907920"/>
            <a:ext cx="3375000" cy="4751640"/>
          </a:xfrm>
          <a:prstGeom prst="rect">
            <a:avLst/>
          </a:prstGeom>
          <a:ln w="0">
            <a:noFill/>
          </a:ln>
        </p:spPr>
      </p:pic>
      <p:sp>
        <p:nvSpPr>
          <p:cNvPr id="837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D395-EE13-4AC7-BD9D-5BF1DE8009E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ЛОГИЧЕСКИЕ ФУН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ll(v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вращает истину, если все элементы вектор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личны от нуля. Дл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атриц выдаёт вектор-строку с аналогичным результатом для каждого столб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4" name="Picture 4" descr=""/>
          <p:cNvPicPr/>
          <p:nvPr/>
        </p:nvPicPr>
        <p:blipFill>
          <a:blip r:embed="rId1"/>
          <a:stretch/>
        </p:blipFill>
        <p:spPr>
          <a:xfrm>
            <a:off x="4803840" y="1700280"/>
            <a:ext cx="3848040" cy="44654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E239-5B08-4B84-84BA-28D037278F4C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lnSpc>
                <a:spcPct val="100000"/>
              </a:lnSpc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ny(v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вращает истину, если хотя бы один элемент вектор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личен от нуля. Дл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атриц выдаёт вектор-строку с аналогичным результатом для каждого столб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1" name="Picture 4" descr=""/>
          <p:cNvPicPr/>
          <p:nvPr/>
        </p:nvPicPr>
        <p:blipFill>
          <a:blip r:embed="rId1"/>
          <a:stretch/>
        </p:blipFill>
        <p:spPr>
          <a:xfrm>
            <a:off x="4533840" y="1081080"/>
            <a:ext cx="4264200" cy="4321080"/>
          </a:xfrm>
          <a:prstGeom prst="rect">
            <a:avLst/>
          </a:prstGeom>
          <a:ln w="0">
            <a:noFill/>
          </a:ln>
        </p:spPr>
      </p:pic>
      <p:sp>
        <p:nvSpPr>
          <p:cNvPr id="852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EA21-4D33-4914-A8EF-A85533D780DB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Picture 5" descr=""/>
          <p:cNvPicPr/>
          <p:nvPr/>
        </p:nvPicPr>
        <p:blipFill>
          <a:blip r:embed="rId1"/>
          <a:stretch/>
        </p:blipFill>
        <p:spPr>
          <a:xfrm>
            <a:off x="1941480" y="765000"/>
            <a:ext cx="5078520" cy="532800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254A-DF13-4CC6-9238-24E51E9B9208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Поиск в массив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find</a:t>
            </a:r>
            <a:r>
              <a:rPr b="0" lang="ru-RU" sz="3000" spc="-1" strike="noStrike">
                <a:solidFill>
                  <a:srgbClr val="ffffff"/>
                </a:solidFill>
                <a:latin typeface="Courier New"/>
              </a:rPr>
              <a:t>: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определяет индексы элементов, удовлетворяющих заданному услови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Picture 4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680000" cy="3676680"/>
          </a:xfrm>
          <a:prstGeom prst="rect">
            <a:avLst/>
          </a:prstGeom>
          <a:ln w="0">
            <a:noFill/>
          </a:ln>
        </p:spPr>
      </p:pic>
      <p:sp>
        <p:nvSpPr>
          <p:cNvPr id="866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7720-6858-403E-A879-C7A8BA397DD3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456840" y="1310760"/>
            <a:ext cx="4259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 применения команды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i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матриц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Picture 7" descr=""/>
          <p:cNvPicPr/>
          <p:nvPr/>
        </p:nvPicPr>
        <p:blipFill>
          <a:blip r:embed="rId1"/>
          <a:stretch/>
        </p:blipFill>
        <p:spPr>
          <a:xfrm>
            <a:off x="4967280" y="907920"/>
            <a:ext cx="3214800" cy="5040360"/>
          </a:xfrm>
          <a:prstGeom prst="rect">
            <a:avLst/>
          </a:prstGeom>
          <a:ln w="0">
            <a:noFill/>
          </a:ln>
        </p:spPr>
      </p:pic>
      <p:sp>
        <p:nvSpPr>
          <p:cNvPr id="873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2BFC-67C5-4B2F-B4CC-05D7A1C96B26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Математические матричные операци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вычисление определителя квадратной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4511520" y="1700280"/>
            <a:ext cx="4237200" cy="4249800"/>
          </a:xfrm>
          <a:prstGeom prst="rect">
            <a:avLst/>
          </a:prstGeom>
          <a:ln w="0">
            <a:noFill/>
          </a:ln>
        </p:spPr>
      </p:pic>
      <p:sp>
        <p:nvSpPr>
          <p:cNvPr id="881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B753-7016-4B24-B67D-6129001CDD65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МАТРИЧНЫЕ И ПОЭЛЕМЕНТНЫЕ ОПЕРАЦИ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и работе с матрицами можно использовать два вида операторов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матричные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производят действия по правилам матричной алгеб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поэлементные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производят действия над соответствующими элементами матриц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ы матриц должны быть одинаков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 матричных операций отличаются точкой перед знаком оп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Среда </a:t>
            </a: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Matlab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рактив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ение переменными в рабочем простран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ак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лад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3851280" y="1600200"/>
            <a:ext cx="529272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C0BF-8D36-4150-8372-A9FC55017C0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9462-0E38-45ED-828F-290873D633D1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716040" y="936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по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  матричное (и поэлементное) с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матричное (и поэлементное) вычит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 матричное умн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   матричное де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^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тричное возведение в степ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14760" y="90792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\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матричное деление «слев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 поэлементное умн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  поэлементное де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^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элементное возведение в степ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\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поэлементное деление «слев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CD61-35F6-4039-A5C2-5FC64FDEB88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0" name="Group 8"/>
          <p:cNvGrpSpPr/>
          <p:nvPr/>
        </p:nvGrpSpPr>
        <p:grpSpPr>
          <a:xfrm>
            <a:off x="1332000" y="1125360"/>
            <a:ext cx="6552720" cy="4319280"/>
            <a:chOff x="1332000" y="1125360"/>
            <a:chExt cx="6552720" cy="4319280"/>
          </a:xfrm>
        </p:grpSpPr>
        <p:pic>
          <p:nvPicPr>
            <p:cNvPr id="901" name="Picture 4" descr=""/>
            <p:cNvPicPr/>
            <p:nvPr/>
          </p:nvPicPr>
          <p:blipFill>
            <a:blip r:embed="rId1"/>
            <a:stretch/>
          </p:blipFill>
          <p:spPr>
            <a:xfrm>
              <a:off x="1332000" y="1125360"/>
              <a:ext cx="3085200" cy="43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6" descr=""/>
            <p:cNvPicPr/>
            <p:nvPr/>
          </p:nvPicPr>
          <p:blipFill>
            <a:blip r:embed="rId2"/>
            <a:stretch/>
          </p:blipFill>
          <p:spPr>
            <a:xfrm>
              <a:off x="5174280" y="1195920"/>
              <a:ext cx="2710440" cy="423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AutoShape 5">
            <a:hlinkClick r:id="rId3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33B3-74C0-4E29-AB41-C1406D434D2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е операции часто используются, если нужно применить какую либо функцию ко всем элементам матр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9" name="Picture 4" descr=""/>
          <p:cNvPicPr/>
          <p:nvPr/>
        </p:nvPicPr>
        <p:blipFill>
          <a:blip r:embed="rId1"/>
          <a:stretch/>
        </p:blipFill>
        <p:spPr>
          <a:xfrm>
            <a:off x="1619280" y="1730520"/>
            <a:ext cx="6335640" cy="4478040"/>
          </a:xfrm>
          <a:prstGeom prst="rect">
            <a:avLst/>
          </a:prstGeom>
          <a:ln w="0">
            <a:noFill/>
          </a:ln>
        </p:spPr>
      </p:pic>
      <p:sp>
        <p:nvSpPr>
          <p:cNvPr id="910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F416-CBF2-4785-83D9-93F5FA9A54D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457200" y="93672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которые операции по умолчанию считаются поэлементны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Picture 4" descr=""/>
          <p:cNvPicPr/>
          <p:nvPr/>
        </p:nvPicPr>
        <p:blipFill>
          <a:blip r:embed="rId1"/>
          <a:stretch/>
        </p:blipFill>
        <p:spPr>
          <a:xfrm>
            <a:off x="4859280" y="792000"/>
            <a:ext cx="3375000" cy="5301000"/>
          </a:xfrm>
          <a:prstGeom prst="rect">
            <a:avLst/>
          </a:prstGeom>
          <a:ln w="0">
            <a:noFill/>
          </a:ln>
        </p:spPr>
      </p:pic>
      <p:sp>
        <p:nvSpPr>
          <p:cNvPr id="917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F654-E2AD-4E32-A479-54BB52F6CD3C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Операции «деления» слева и справ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няются для решения систем линейных уравнений (СЛ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ение слева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\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квадратных матриц реализует метод Гау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рямоугольных матриц– метод наименьших квадр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4" name="Picture 10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2167200" cy="5688000"/>
          </a:xfrm>
          <a:prstGeom prst="rect">
            <a:avLst/>
          </a:prstGeom>
          <a:ln w="0">
            <a:noFill/>
          </a:ln>
        </p:spPr>
      </p:pic>
      <p:sp>
        <p:nvSpPr>
          <p:cNvPr id="925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4388-6651-4C11-A907-2A707C84FAD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04520" y="1211400"/>
            <a:ext cx="7467480" cy="300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Franklin Gothic Book"/>
              </a:rPr>
              <a:t>ГРАФИЧЕСКИЕ ВОЗМОЖНОСТИ </a:t>
            </a:r>
            <a:r>
              <a:rPr b="0" lang="en-US" sz="5400" spc="-1" strike="noStrike">
                <a:solidFill>
                  <a:srgbClr val="ffff00"/>
                </a:solidFill>
                <a:latin typeface="Franklin Gothic Book"/>
              </a:rPr>
              <a:t>MATLAB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1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A828-D528-4F07-8CF6-BCD3F4176A4E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Графика в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Matlab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оуровнев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ребует от пользователя детальных знаний о работе графической под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объект на рисунке имеет свойства, которые можно ме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яема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ndl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к графическим объектам возможен как через инспектор объектов, так и при помощи встроенных функц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дескрипторная графи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F746-9A3B-405C-AE2C-375366803803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Двумерные (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2D-</a:t>
            </a: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) график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стейший способ построения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D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рафик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4e67c8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дать область построения (диапазон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4e67c8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числить значение функции на области постро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4e67c8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строить график при помощи одной из встроенных функций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la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DC03-0052-4A1D-896F-F93E7E32156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0" name="Picture 4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557760" cy="5904000"/>
          </a:xfrm>
          <a:prstGeom prst="rect">
            <a:avLst/>
          </a:prstGeom>
          <a:ln w="0">
            <a:noFill/>
          </a:ln>
        </p:spPr>
      </p:pic>
      <p:sp>
        <p:nvSpPr>
          <p:cNvPr id="951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E760-0B9F-4BC3-9CDB-7CB616160CA3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Построение второго графи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сразу же построить другой график, то старый график будет удалён из графического ок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8" name="Picture 5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4824360" cy="4662720"/>
          </a:xfrm>
          <a:prstGeom prst="rect">
            <a:avLst/>
          </a:prstGeom>
          <a:ln w="0">
            <a:noFill/>
          </a:ln>
        </p:spPr>
      </p:pic>
      <p:sp>
        <p:nvSpPr>
          <p:cNvPr id="959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Управляемая график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анды высокого уровня для работы с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D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D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фи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и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анды низкого уровня для работы с графи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6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2376360" cy="1970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2376720" cy="1879560"/>
          </a:xfrm>
          <a:prstGeom prst="rect">
            <a:avLst/>
          </a:prstGeom>
          <a:ln w="0">
            <a:noFill/>
          </a:ln>
        </p:spPr>
      </p:pic>
      <p:sp>
        <p:nvSpPr>
          <p:cNvPr id="433" name="Номер слайда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FBBA-8A1B-4DC3-807F-D85D8E13B1C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10" descr=""/>
          <p:cNvPicPr/>
          <p:nvPr/>
        </p:nvPicPr>
        <p:blipFill>
          <a:blip r:embed="rId3"/>
          <a:stretch/>
        </p:blipFill>
        <p:spPr>
          <a:xfrm>
            <a:off x="6769080" y="1989000"/>
            <a:ext cx="2374920" cy="1913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"/>
          <p:cNvPicPr/>
          <p:nvPr/>
        </p:nvPicPr>
        <p:blipFill>
          <a:blip r:embed="rId4"/>
          <a:stretch/>
        </p:blipFill>
        <p:spPr>
          <a:xfrm>
            <a:off x="6881760" y="3933720"/>
            <a:ext cx="2262240" cy="273708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5">
            <a:hlinkClick r:id="rId5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878D-AA33-45D7-9F4B-34DB182831C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Построение двух графиков в одной системе координат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7467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ва графика в одной СК можно построить следующими способам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4e67c8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«закрепить» графическое окно при помощи команды </a:t>
            </a:r>
            <a:r>
              <a:rPr b="0" i="1" lang="en-US" sz="2600" spc="-1" strike="noStrike">
                <a:solidFill>
                  <a:srgbClr val="ffff00"/>
                </a:solidFill>
                <a:latin typeface="Courier New"/>
              </a:rPr>
              <a:t>hold 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4e67c8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менить одну команду </a:t>
            </a:r>
            <a:r>
              <a:rPr b="0" i="1" lang="en-US" sz="2600" spc="-1" strike="noStrike">
                <a:solidFill>
                  <a:srgbClr val="ffff00"/>
                </a:solidFill>
                <a:latin typeface="Courier New"/>
              </a:rPr>
              <a:t>plot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643B-3644-4CC1-9A20-102A32E5F048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Пример закрепления графиков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972" name="Picture 4" descr=""/>
          <p:cNvPicPr/>
          <p:nvPr/>
        </p:nvPicPr>
        <p:blipFill>
          <a:blip r:embed="rId1"/>
          <a:stretch/>
        </p:blipFill>
        <p:spPr>
          <a:xfrm>
            <a:off x="711360" y="1197000"/>
            <a:ext cx="7850160" cy="5176800"/>
          </a:xfrm>
          <a:prstGeom prst="rect">
            <a:avLst/>
          </a:prstGeom>
          <a:ln w="0">
            <a:noFill/>
          </a:ln>
        </p:spPr>
      </p:pic>
      <p:sp>
        <p:nvSpPr>
          <p:cNvPr id="973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BA44-E924-4D97-901A-D9FEDAF8BCD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4" descr=""/>
          <p:cNvPicPr/>
          <p:nvPr/>
        </p:nvPicPr>
        <p:blipFill>
          <a:blip r:embed="rId1"/>
          <a:stretch/>
        </p:blipFill>
        <p:spPr>
          <a:xfrm>
            <a:off x="1109520" y="1484280"/>
            <a:ext cx="7201080" cy="4856040"/>
          </a:xfrm>
          <a:prstGeom prst="rect">
            <a:avLst/>
          </a:prstGeom>
          <a:ln w="0">
            <a:noFill/>
          </a:ln>
        </p:spPr>
      </p:pic>
      <p:sp>
        <p:nvSpPr>
          <p:cNvPr id="979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Пример построения двух графиков одной командой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2FE6-3876-4254-9B6E-23E8E70EDBB2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457200" y="1383840"/>
            <a:ext cx="829152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команде </a:t>
            </a:r>
            <a:r>
              <a:rPr b="1" i="1" lang="en-US" sz="2800" spc="-1" strike="noStrike">
                <a:solidFill>
                  <a:srgbClr val="ffff00"/>
                </a:solidFill>
                <a:latin typeface="Courier New"/>
              </a:rPr>
              <a:t>plot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можно задать для каждого граф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 линии       тип маркера            тип ли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4" descr=""/>
          <p:cNvPicPr/>
          <p:nvPr/>
        </p:nvPicPr>
        <p:blipFill>
          <a:blip r:embed="rId1"/>
          <a:stretch/>
        </p:blipFill>
        <p:spPr>
          <a:xfrm>
            <a:off x="947880" y="2781360"/>
            <a:ext cx="7153200" cy="3672000"/>
          </a:xfrm>
          <a:prstGeom prst="rect">
            <a:avLst/>
          </a:prstGeom>
          <a:ln w="0">
            <a:noFill/>
          </a:ln>
        </p:spPr>
      </p:pic>
      <p:sp>
        <p:nvSpPr>
          <p:cNvPr id="987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Дополнительные параметры команды </a:t>
            </a:r>
            <a:r>
              <a:rPr b="1" i="1" lang="en-US" sz="4000" spc="-1" strike="noStrike">
                <a:solidFill>
                  <a:srgbClr val="ffff00"/>
                </a:solidFill>
                <a:latin typeface="Courier New"/>
              </a:rPr>
              <a:t>plot</a:t>
            </a: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8270-379D-4C3B-AFB1-5C8B42CF13A7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28120" y="188640"/>
            <a:ext cx="735660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Пример команды </a:t>
            </a:r>
            <a:r>
              <a:rPr b="0" lang="en-US" sz="4600" spc="-1" strike="noStrike">
                <a:solidFill>
                  <a:srgbClr val="ffff00"/>
                </a:solidFill>
                <a:latin typeface="Courier New"/>
              </a:rPr>
              <a:t>plot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994" name="Picture 4" descr=""/>
          <p:cNvPicPr/>
          <p:nvPr/>
        </p:nvPicPr>
        <p:blipFill>
          <a:blip r:embed="rId1"/>
          <a:stretch/>
        </p:blipFill>
        <p:spPr>
          <a:xfrm>
            <a:off x="1565280" y="907920"/>
            <a:ext cx="5599080" cy="5410440"/>
          </a:xfrm>
          <a:prstGeom prst="rect">
            <a:avLst/>
          </a:prstGeom>
          <a:ln w="0">
            <a:noFill/>
          </a:ln>
        </p:spPr>
      </p:pic>
      <p:sp>
        <p:nvSpPr>
          <p:cNvPr id="995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BDF5-38E5-45FB-8182-C23AE715A8D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Построение нескольких графиков в одном окне в разных СК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ерхность графического окна можно разделить на зоны, в каждой из которых выводить свой граф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этого служит команда </a:t>
            </a:r>
            <a:r>
              <a:rPr b="1" i="1" lang="en-US" sz="2800" spc="-1" strike="noStrike">
                <a:solidFill>
                  <a:srgbClr val="ffff00"/>
                </a:solidFill>
                <a:latin typeface="Courier New"/>
              </a:rPr>
              <a:t>sub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честве параметров ей передаётся трёхзначное целое число вида </a:t>
            </a:r>
            <a:r>
              <a:rPr b="0" i="1" lang="en-US" sz="2800" spc="-1" strike="noStrike">
                <a:solidFill>
                  <a:srgbClr val="ffff00"/>
                </a:solidFill>
                <a:latin typeface="Courier New"/>
              </a:rPr>
              <a:t>m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пределяют количество графических «подокон» по горизонтали и вертик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90000"/>
              </a:lnSpc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адаёт номер графического «подок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6172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ок нумерации – по строк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2A08-68D0-407C-A186-E1789FA1BE82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706896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Первый </a:t>
            </a:r>
            <a:r>
              <a:rPr b="0" i="1" lang="en-US" sz="3600" spc="-1" strike="noStrike">
                <a:solidFill>
                  <a:srgbClr val="ffff00"/>
                </a:solidFill>
                <a:latin typeface="Courier New"/>
              </a:rPr>
              <a:t>subplot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08" name="Picture 4" descr=""/>
          <p:cNvPicPr/>
          <p:nvPr/>
        </p:nvPicPr>
        <p:blipFill>
          <a:blip r:embed="rId1"/>
          <a:stretch/>
        </p:blipFill>
        <p:spPr>
          <a:xfrm>
            <a:off x="1087560" y="981000"/>
            <a:ext cx="6292800" cy="5426280"/>
          </a:xfrm>
          <a:prstGeom prst="rect">
            <a:avLst/>
          </a:prstGeom>
          <a:ln w="0">
            <a:noFill/>
          </a:ln>
        </p:spPr>
      </p:pic>
      <p:sp>
        <p:nvSpPr>
          <p:cNvPr id="1009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B5B9-926E-47A0-881E-8ED02BC7E6EF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Второй </a:t>
            </a:r>
            <a:r>
              <a:rPr b="0" i="1" lang="en-US" sz="3600" spc="-1" strike="noStrike">
                <a:solidFill>
                  <a:srgbClr val="ffff00"/>
                </a:solidFill>
                <a:latin typeface="Courier New"/>
              </a:rPr>
              <a:t>subplot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15" name="Picture 4" descr=""/>
          <p:cNvPicPr/>
          <p:nvPr/>
        </p:nvPicPr>
        <p:blipFill>
          <a:blip r:embed="rId1"/>
          <a:stretch/>
        </p:blipFill>
        <p:spPr>
          <a:xfrm>
            <a:off x="1333440" y="981000"/>
            <a:ext cx="6046920" cy="5400720"/>
          </a:xfrm>
          <a:prstGeom prst="rect">
            <a:avLst/>
          </a:prstGeom>
          <a:ln w="0">
            <a:noFill/>
          </a:ln>
        </p:spPr>
      </p:pic>
      <p:sp>
        <p:nvSpPr>
          <p:cNvPr id="1016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1B29-3319-4418-91E0-4459808051E2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Picture 4" descr=""/>
          <p:cNvPicPr/>
          <p:nvPr/>
        </p:nvPicPr>
        <p:blipFill>
          <a:blip r:embed="rId1"/>
          <a:stretch/>
        </p:blipFill>
        <p:spPr>
          <a:xfrm>
            <a:off x="463680" y="549360"/>
            <a:ext cx="7745400" cy="561636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41C0-A797-4CAE-BC69-5E8FBDBBC267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Построение графиков в разных графических окнах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ть новое графическое окно можно командой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fig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анда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figure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ёт графическое окно и возвращает указатель на него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Courier New"/>
              </a:rPr>
              <a:t>h = fig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ктивизировать ранее созданное окно можно командой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figure(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Библиотека математических функци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ширная коллекция вычислительных алгоритмов от  элементарных функций  (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т. п.) до более слож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ращение матриц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числение собственных знач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инимизация функц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ифференцир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нтегрир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 пр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6653-79A9-4157-A0F6-1A4E92AA561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C184-9B36-4364-9723-65BE87440783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Picture 4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468000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1868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ourier New"/>
              </a:rPr>
              <a:t>figure</a:t>
            </a: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 : пример использования 1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6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B42C-9DF0-4C80-8EDB-C4C4BD50A3A9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1" name="Picture 4" descr=""/>
          <p:cNvPicPr/>
          <p:nvPr/>
        </p:nvPicPr>
        <p:blipFill>
          <a:blip r:embed="rId1"/>
          <a:stretch/>
        </p:blipFill>
        <p:spPr>
          <a:xfrm>
            <a:off x="781200" y="765000"/>
            <a:ext cx="7056360" cy="5623200"/>
          </a:xfrm>
          <a:prstGeom prst="rect">
            <a:avLst/>
          </a:prstGeom>
          <a:ln w="0">
            <a:noFill/>
          </a:ln>
        </p:spPr>
      </p:pic>
      <p:sp>
        <p:nvSpPr>
          <p:cNvPr id="1042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179280" y="0"/>
            <a:ext cx="85186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ourier New"/>
                <a:ea typeface="Arial"/>
              </a:rPr>
              <a:t>figure</a:t>
            </a:r>
            <a:r>
              <a:rPr b="0" lang="ru-RU" sz="4000" spc="-1" strike="noStrike">
                <a:solidFill>
                  <a:srgbClr val="ffff00"/>
                </a:solidFill>
                <a:latin typeface="Franklin Gothic Book"/>
                <a:ea typeface="Arial"/>
              </a:rPr>
              <a:t> : пример использования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D99A-7463-493F-9C19-AC78FFC4C400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00"/>
                </a:solidFill>
                <a:latin typeface="Courier New"/>
              </a:rPr>
              <a:t>Axis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: </a:t>
            </a: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управление масштабом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анда </a:t>
            </a:r>
            <a:br>
              <a:rPr sz="3000"/>
            </a:br>
            <a:r>
              <a:rPr b="0" lang="en-US" sz="3000" spc="-1" strike="noStrike">
                <a:solidFill>
                  <a:srgbClr val="ffff00"/>
                </a:solidFill>
                <a:latin typeface="Courier New"/>
              </a:rPr>
              <a:t>axis([Xmin Xmax Ymin Ymax])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ёт область построения графиков по осям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пользуется, если результат автомасштабирования неудовлетворителе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FA9E-EA5F-4CB9-ABBF-866EEB2D17B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Courier New"/>
              </a:rPr>
              <a:t>Axis</a:t>
            </a:r>
            <a:r>
              <a:rPr b="0" lang="ru-RU" sz="4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не используетс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56" name="Picture 4" descr=""/>
          <p:cNvPicPr/>
          <p:nvPr/>
        </p:nvPicPr>
        <p:blipFill>
          <a:blip r:embed="rId1"/>
          <a:stretch/>
        </p:blipFill>
        <p:spPr>
          <a:xfrm>
            <a:off x="684360" y="1222200"/>
            <a:ext cx="7632720" cy="5185080"/>
          </a:xfrm>
          <a:prstGeom prst="rect">
            <a:avLst/>
          </a:prstGeom>
          <a:ln w="0">
            <a:noFill/>
          </a:ln>
        </p:spPr>
      </p:pic>
      <p:sp>
        <p:nvSpPr>
          <p:cNvPr id="1057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13E2-A004-4CA9-9296-444E1E33A18B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7404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Courier New"/>
              </a:rPr>
              <a:t>Axis </a:t>
            </a: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используетс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63" name="Picture 4" descr=""/>
          <p:cNvPicPr/>
          <p:nvPr/>
        </p:nvPicPr>
        <p:blipFill>
          <a:blip r:embed="rId1"/>
          <a:stretch/>
        </p:blipFill>
        <p:spPr>
          <a:xfrm>
            <a:off x="1854360" y="981000"/>
            <a:ext cx="5689440" cy="5381640"/>
          </a:xfrm>
          <a:prstGeom prst="rect">
            <a:avLst/>
          </a:prstGeom>
          <a:ln w="0">
            <a:noFill/>
          </a:ln>
        </p:spPr>
      </p:pic>
      <p:sp>
        <p:nvSpPr>
          <p:cNvPr id="1064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73F-581C-4D72-BD8C-AC768290700D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Оформление графико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графиков можно зад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асштабную сетку: </a:t>
            </a:r>
            <a:r>
              <a:rPr b="0" lang="en-US" sz="2600" spc="-1" strike="noStrike">
                <a:solidFill>
                  <a:srgbClr val="ffff00"/>
                </a:solidFill>
                <a:latin typeface="Courier New"/>
              </a:rPr>
              <a:t>grid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ourier New"/>
              </a:rPr>
              <a:t>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головок: </a:t>
            </a:r>
            <a:r>
              <a:rPr b="0" lang="en-US" sz="2600" spc="-1" strike="noStrike">
                <a:solidFill>
                  <a:srgbClr val="ffff00"/>
                </a:solidFill>
                <a:latin typeface="Courier New"/>
              </a:rPr>
              <a:t>title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(’</a:t>
            </a:r>
            <a:r>
              <a:rPr b="0" lang="ru-RU" sz="2600" spc="-1" strike="noStrike">
                <a:solidFill>
                  <a:srgbClr val="ffffff"/>
                </a:solidFill>
                <a:latin typeface="Courier New"/>
              </a:rPr>
              <a:t>заголовок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’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дписи осей: </a:t>
            </a:r>
            <a:r>
              <a:rPr b="0" lang="en-US" sz="2600" spc="-1" strike="noStrike">
                <a:solidFill>
                  <a:srgbClr val="ffff00"/>
                </a:solidFill>
                <a:latin typeface="Courier New"/>
              </a:rPr>
              <a:t>xlabel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(’</a:t>
            </a:r>
            <a:r>
              <a:rPr b="0" lang="ru-RU" sz="2600" spc="-1" strike="noStrike">
                <a:solidFill>
                  <a:srgbClr val="ffffff"/>
                </a:solidFill>
                <a:latin typeface="Courier New"/>
              </a:rPr>
              <a:t>текст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’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 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Courier New"/>
              </a:rPr>
              <a:t>ylabel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 (’</a:t>
            </a:r>
            <a:r>
              <a:rPr b="0" lang="ru-RU" sz="2600" spc="-1" strike="noStrike">
                <a:solidFill>
                  <a:srgbClr val="ffffff"/>
                </a:solidFill>
                <a:latin typeface="Courier New"/>
              </a:rPr>
              <a:t>текст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’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заголовках и подписях можно использовать нотацию системы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e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85BB-DA89-4463-8A27-22DCDE08F38A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5000" y="259920"/>
            <a:ext cx="842508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Пример оформления графи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77" name="Picture 5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985080" cy="5151240"/>
          </a:xfrm>
          <a:prstGeom prst="rect">
            <a:avLst/>
          </a:prstGeom>
          <a:ln w="0">
            <a:noFill/>
          </a:ln>
        </p:spPr>
      </p:pic>
      <p:sp>
        <p:nvSpPr>
          <p:cNvPr id="1078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C3F-4946-4E8D-8201-B22AA28904F4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Форматирование графико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448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упно из меню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Ed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5" name="Picture 4" descr=""/>
          <p:cNvPicPr/>
          <p:nvPr/>
        </p:nvPicPr>
        <p:blipFill>
          <a:blip r:embed="rId1"/>
          <a:stretch/>
        </p:blipFill>
        <p:spPr>
          <a:xfrm>
            <a:off x="3414600" y="1125360"/>
            <a:ext cx="4616640" cy="5181840"/>
          </a:xfrm>
          <a:prstGeom prst="rect">
            <a:avLst/>
          </a:prstGeom>
          <a:ln w="0">
            <a:noFill/>
          </a:ln>
        </p:spPr>
      </p:pic>
      <p:sp>
        <p:nvSpPr>
          <p:cNvPr id="1086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A4D0-9B12-4308-AB84-2D56A8768BD1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ranklin Gothic Book"/>
              </a:rPr>
              <a:t>Графики функций, заданных параметричес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оятся при помощи оператора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pl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начале задаётся диапазон построения 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тем вычисляются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x(t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en-US" sz="3000" spc="-1" strike="noStrike">
                <a:solidFill>
                  <a:srgbClr val="ffff00"/>
                </a:solidFill>
                <a:latin typeface="Courier New"/>
              </a:rPr>
              <a:t>y(t)</a:t>
            </a:r>
            <a:r>
              <a:rPr b="0" i="1" lang="en-US" sz="3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строится графи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AutoShape 5">
            <a:hlinkClick r:id="rId1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1C3C-48B8-43D5-8E6B-D8BAB90D556D}" type="slidenum">
              <a:rPr b="0" lang="ru-RU" sz="1000" spc="-1" strike="noStrike">
                <a:solidFill>
                  <a:srgbClr val="83a1b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167680" cy="4969080"/>
          </a:xfrm>
          <a:prstGeom prst="rect">
            <a:avLst/>
          </a:prstGeom>
          <a:ln w="0">
            <a:noFill/>
          </a:ln>
        </p:spPr>
      </p:pic>
      <p:sp>
        <p:nvSpPr>
          <p:cNvPr id="1099" name="AutoShape 5">
            <a:hlinkClick r:id="rId2" action="ppaction://hlinksldjump"/>
          </p:cNvPr>
          <p:cNvSpPr/>
          <p:nvPr/>
        </p:nvSpPr>
        <p:spPr>
          <a:xfrm>
            <a:off x="5292720" y="6524640"/>
            <a:ext cx="936720" cy="216000"/>
          </a:xfrm>
          <a:custGeom>
            <a:avLst/>
            <a:gdLst>
              <a:gd name="textAreaLeft" fmla="*/ 13680 w 936720"/>
              <a:gd name="textAreaRight" fmla="*/ 923040 w 936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93552" h="21600">
                <a:moveTo>
                  <a:pt x="0" y="0"/>
                </a:moveTo>
                <a:lnTo>
                  <a:pt x="93552" y="0"/>
                </a:lnTo>
                <a:lnTo>
                  <a:pt x="93552" y="21600"/>
                </a:lnTo>
                <a:lnTo>
                  <a:pt x="0" y="21600"/>
                </a:lnTo>
                <a:close/>
              </a:path>
              <a:path fill="lightenLess" w="93552" h="21600">
                <a:moveTo>
                  <a:pt x="0" y="0"/>
                </a:moveTo>
                <a:lnTo>
                  <a:pt x="93552" y="0"/>
                </a:lnTo>
                <a:lnTo>
                  <a:pt x="92152" y="1400"/>
                </a:lnTo>
                <a:lnTo>
                  <a:pt x="1400" y="1400"/>
                </a:lnTo>
                <a:close/>
              </a:path>
              <a:path fill="darken" w="93552" h="21600">
                <a:moveTo>
                  <a:pt x="93552" y="0"/>
                </a:moveTo>
                <a:lnTo>
                  <a:pt x="93552" y="21600"/>
                </a:lnTo>
                <a:lnTo>
                  <a:pt x="92152" y="20200"/>
                </a:lnTo>
                <a:lnTo>
                  <a:pt x="92152" y="1400"/>
                </a:lnTo>
                <a:close/>
              </a:path>
              <a:path fill="darkenLess" w="93552" h="21600">
                <a:moveTo>
                  <a:pt x="9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2" y="20200"/>
                </a:lnTo>
                <a:close/>
              </a:path>
              <a:path fill="lighten" w="9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AutoShape 6">
            <a:hlinkClick r:id="" action="ppaction://hlinkshowjump?jump=nextslide"/>
          </p:cNvPr>
          <p:cNvSpPr/>
          <p:nvPr/>
        </p:nvSpPr>
        <p:spPr>
          <a:xfrm>
            <a:off x="723744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AutoShape 7">
            <a:hlinkClick r:id="" action="ppaction://hlinkshowjump?jump=endshow"/>
          </p:cNvPr>
          <p:cNvSpPr/>
          <p:nvPr/>
        </p:nvSpPr>
        <p:spPr>
          <a:xfrm>
            <a:off x="8031240" y="652464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х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AutoShape 8">
            <a:hlinkClick r:id="" action="ppaction://hlinkshowjump?jump=previousslide"/>
          </p:cNvPr>
          <p:cNvSpPr/>
          <p:nvPr/>
        </p:nvSpPr>
        <p:spPr>
          <a:xfrm>
            <a:off x="6446880" y="6524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7:10:22Z</dcterms:created>
  <dc:creator>Vadim Djenjer</dc:creator>
  <dc:description/>
  <dc:language>en-US</dc:language>
  <cp:lastModifiedBy>Виталий Быкадор</cp:lastModifiedBy>
  <cp:lastPrinted>2013-10-01T06:58:13Z</cp:lastPrinted>
  <dcterms:modified xsi:type="dcterms:W3CDTF">2024-09-27T20:47:54Z</dcterms:modified>
  <cp:revision>107</cp:revision>
  <dc:subject/>
  <dc:title>Введение в Matlab</dc:title>
</cp:coreProperties>
</file>